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C307-B266-4762-8BDA-D4DE6BE8AE6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7AF9-C240-4674-ADA8-FCC6A9F736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057-86C5-4757-95CE-1F8D99A2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D50-23F3-4F82-B191-4B9B6C5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B590-7F06-41A3-AD6A-477C8C97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3B8B-A56F-4EE9-9CAF-22EE2020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FFF6-FECA-484B-9410-15534E0B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F76E-7C0D-474B-820F-E33B560F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4AC-43EE-48E8-B953-F6B0137A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E861-F144-4718-A912-BB42B16B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F67-D1E4-477C-8179-77C5EBE2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320-439A-4F51-8D0F-C2B68616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C6D-ED74-4426-B4EE-BBA8CC6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37AB-376A-439E-9B61-62D7448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348B-6B1D-4543-90CE-6E53FCC8DE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893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115920"/>
            <a:ext cx="938160" cy="1009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62160" y="2349360"/>
            <a:ext cx="678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АЯ СВЯЗ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95280" y="2770200"/>
            <a:ext cx="4025880" cy="2819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>
            <a:off x="4932360" y="2698920"/>
            <a:ext cx="3736800" cy="28908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266760" y="2138400"/>
            <a:ext cx="5010120" cy="44467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Объект 2"/>
              <p:cNvSpPr txBox="1"/>
              <p:nvPr/>
            </p:nvSpPr>
            <p:spPr>
              <a:xfrm>
                <a:off x="6172200" y="3716280"/>
                <a:ext cx="23367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в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5643360" y="306864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вязи (кратность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28480" y="2565360"/>
          <a:ext cx="8194680" cy="2808360"/>
        </p:xfrm>
        <a:graphic>
          <a:graphicData uri="http://schemas.openxmlformats.org/drawingml/2006/table">
            <a:tbl>
              <a:tblPr/>
              <a:tblGrid>
                <a:gridCol w="1638360"/>
                <a:gridCol w="1640160"/>
                <a:gridCol w="1638000"/>
                <a:gridCol w="1640160"/>
                <a:gridCol w="1638000"/>
              </a:tblGrid>
              <a:tr h="9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ек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тность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в, кДж/м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 (С - С)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-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= С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и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С ≡ С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2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1670040" y="2143080"/>
            <a:ext cx="5911920" cy="4705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468360" y="168264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химической связ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2411280" y="1322280"/>
            <a:ext cx="45547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2419200" y="1341360"/>
            <a:ext cx="4168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1882800" y="2138400"/>
            <a:ext cx="5857920" cy="299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2195640" y="5300640"/>
            <a:ext cx="5325840" cy="14414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3647880" y="173844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3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003400" y="2087640"/>
            <a:ext cx="5546880" cy="4770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3580920" y="1731960"/>
            <a:ext cx="245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7155000" cy="44640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бридизация А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4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Group 18"/>
          <p:cNvGrpSpPr/>
          <p:nvPr/>
        </p:nvGrpSpPr>
        <p:grpSpPr>
          <a:xfrm>
            <a:off x="3276720" y="2333520"/>
            <a:ext cx="3012840" cy="1185840"/>
            <a:chOff x="3276720" y="2333520"/>
            <a:chExt cx="3012840" cy="1185840"/>
          </a:xfrm>
        </p:grpSpPr>
        <p:pic>
          <p:nvPicPr>
            <p:cNvPr id="148" name="Picture 9" descr="gl311"/>
            <p:cNvPicPr/>
            <p:nvPr/>
          </p:nvPicPr>
          <p:blipFill>
            <a:blip r:embed="rId2"/>
            <a:srcRect l="37201" t="7373" r="37994" b="4229"/>
            <a:stretch/>
          </p:blipFill>
          <p:spPr>
            <a:xfrm>
              <a:off x="4629240" y="2333520"/>
              <a:ext cx="98892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Oval 10"/>
            <p:cNvSpPr/>
            <p:nvPr/>
          </p:nvSpPr>
          <p:spPr>
            <a:xfrm>
              <a:off x="3276720" y="2333520"/>
              <a:ext cx="3012840" cy="115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Text Box 11"/>
            <p:cNvSpPr/>
            <p:nvPr/>
          </p:nvSpPr>
          <p:spPr>
            <a:xfrm>
              <a:off x="3505320" y="2447640"/>
              <a:ext cx="539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5564160" y="2447640"/>
              <a:ext cx="639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Cl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13" descr="gl311"/>
            <p:cNvPicPr/>
            <p:nvPr/>
          </p:nvPicPr>
          <p:blipFill>
            <a:blip r:embed="rId3"/>
            <a:srcRect l="10973" t="23091" r="70169" b="34656"/>
            <a:stretch/>
          </p:blipFill>
          <p:spPr>
            <a:xfrm>
              <a:off x="3689280" y="2693880"/>
              <a:ext cx="584280" cy="4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4" descr="gl311"/>
            <p:cNvPicPr/>
            <p:nvPr/>
          </p:nvPicPr>
          <p:blipFill>
            <a:blip r:embed="rId4"/>
            <a:srcRect l="10973" t="23091" r="70169" b="34656"/>
            <a:stretch/>
          </p:blipFill>
          <p:spPr>
            <a:xfrm>
              <a:off x="5618160" y="2727360"/>
              <a:ext cx="528840" cy="39816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154" name="Object 16"/>
              <p:cNvSpPr txBox="1"/>
              <p:nvPr/>
            </p:nvSpPr>
            <p:spPr>
              <a:xfrm>
                <a:off x="3684600" y="3860640"/>
                <a:ext cx="2347920" cy="108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H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 </m:t>
                    </m:r>
                    <m:limUpp>
                      <m:e>
                        <m:r>
                          <m:rPr>
                            <m:lit/>
                            <m:nor/>
                          </m:rPr>
                          <m:t xml:space="preserve">Cl</m:t>
                        </m:r>
                      </m:e>
                      <m:lim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155" name="Text Box 17"/>
          <p:cNvSpPr/>
          <p:nvPr/>
        </p:nvSpPr>
        <p:spPr>
          <a:xfrm>
            <a:off x="179280" y="54468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язь в молекуле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полярная, имеет на 17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% ионный характе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244520" y="1844640"/>
            <a:ext cx="6783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химической связ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Объект 1"/>
              <p:cNvSpPr txBox="1"/>
              <p:nvPr/>
            </p:nvSpPr>
            <p:spPr>
              <a:xfrm>
                <a:off x="3490920" y="3860640"/>
                <a:ext cx="252108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Объект 2"/>
              <p:cNvSpPr txBox="1"/>
              <p:nvPr/>
            </p:nvSpPr>
            <p:spPr>
              <a:xfrm>
                <a:off x="2413080" y="5516640"/>
                <a:ext cx="489564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Кл</m:t>
                    </m:r>
                    <m:r>
                      <m:t xml:space="preserve">⋅</m:t>
                    </m:r>
                    <m:r>
                      <m:t xml:space="preserve">м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1" name="Picture 8" descr=""/>
          <p:cNvPicPr/>
          <p:nvPr/>
        </p:nvPicPr>
        <p:blipFill>
          <a:blip r:embed="rId2"/>
          <a:stretch/>
        </p:blipFill>
        <p:spPr>
          <a:xfrm>
            <a:off x="3201840" y="1916280"/>
            <a:ext cx="30988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0"/>
          <p:cNvGrpSpPr/>
          <p:nvPr/>
        </p:nvGrpSpPr>
        <p:grpSpPr>
          <a:xfrm>
            <a:off x="2195640" y="1911240"/>
            <a:ext cx="5111280" cy="1949760"/>
            <a:chOff x="2195640" y="1911240"/>
            <a:chExt cx="5111280" cy="1949760"/>
          </a:xfrm>
        </p:grpSpPr>
        <p:sp>
          <p:nvSpPr>
            <p:cNvPr id="165" name="Text Box 23"/>
            <p:cNvSpPr/>
            <p:nvPr/>
          </p:nvSpPr>
          <p:spPr>
            <a:xfrm>
              <a:off x="3654360" y="1982880"/>
              <a:ext cx="57852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Text Box 24"/>
            <p:cNvSpPr/>
            <p:nvPr/>
          </p:nvSpPr>
          <p:spPr>
            <a:xfrm>
              <a:off x="5292720" y="1911240"/>
              <a:ext cx="6170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67" name="Group 29"/>
            <p:cNvGrpSpPr/>
            <p:nvPr/>
          </p:nvGrpSpPr>
          <p:grpSpPr>
            <a:xfrm>
              <a:off x="2195640" y="2270160"/>
              <a:ext cx="5111280" cy="1590840"/>
              <a:chOff x="2195640" y="2270160"/>
              <a:chExt cx="5111280" cy="1590840"/>
            </a:xfrm>
          </p:grpSpPr>
          <p:sp>
            <p:nvSpPr>
              <p:cNvPr id="168" name="Oval 8"/>
              <p:cNvSpPr/>
              <p:nvPr/>
            </p:nvSpPr>
            <p:spPr>
              <a:xfrm>
                <a:off x="4284720" y="2270160"/>
                <a:ext cx="934560" cy="9363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Text Box 9"/>
              <p:cNvSpPr/>
              <p:nvPr/>
            </p:nvSpPr>
            <p:spPr>
              <a:xfrm>
                <a:off x="4502160" y="2487600"/>
                <a:ext cx="57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Ве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70" name="Group 12"/>
              <p:cNvGrpSpPr/>
              <p:nvPr/>
            </p:nvGrpSpPr>
            <p:grpSpPr>
              <a:xfrm>
                <a:off x="2195640" y="2414520"/>
                <a:ext cx="647640" cy="652680"/>
                <a:chOff x="2195640" y="2414520"/>
                <a:chExt cx="647640" cy="652680"/>
              </a:xfrm>
            </p:grpSpPr>
            <p:sp>
              <p:nvSpPr>
                <p:cNvPr id="171" name="Oval 10"/>
                <p:cNvSpPr/>
                <p:nvPr/>
              </p:nvSpPr>
              <p:spPr>
                <a:xfrm>
                  <a:off x="2195640" y="2414520"/>
                  <a:ext cx="64764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11"/>
                <p:cNvSpPr/>
                <p:nvPr/>
              </p:nvSpPr>
              <p:spPr>
                <a:xfrm>
                  <a:off x="2340000" y="248580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Group 13"/>
              <p:cNvGrpSpPr/>
              <p:nvPr/>
            </p:nvGrpSpPr>
            <p:grpSpPr>
              <a:xfrm>
                <a:off x="6659640" y="2343240"/>
                <a:ext cx="647280" cy="652680"/>
                <a:chOff x="6659640" y="2343240"/>
                <a:chExt cx="647280" cy="652680"/>
              </a:xfrm>
            </p:grpSpPr>
            <p:sp>
              <p:nvSpPr>
                <p:cNvPr id="174" name="Oval 14"/>
                <p:cNvSpPr/>
                <p:nvPr/>
              </p:nvSpPr>
              <p:spPr>
                <a:xfrm>
                  <a:off x="6659640" y="2343240"/>
                  <a:ext cx="647280" cy="6476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15"/>
                <p:cNvSpPr/>
                <p:nvPr/>
              </p:nvSpPr>
              <p:spPr>
                <a:xfrm>
                  <a:off x="6803640" y="2414520"/>
                  <a:ext cx="4064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F</a:t>
                  </a:r>
                  <a:endParaRPr b="0" lang="en-US" sz="3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76" name="Line 17"/>
              <p:cNvSpPr/>
              <p:nvPr/>
            </p:nvSpPr>
            <p:spPr>
              <a:xfrm>
                <a:off x="5219640" y="2703600"/>
                <a:ext cx="136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4284720" y="277488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2916000" y="2703600"/>
                <a:ext cx="13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Line 21"/>
              <p:cNvSpPr/>
              <p:nvPr/>
            </p:nvSpPr>
            <p:spPr>
              <a:xfrm>
                <a:off x="5219640" y="2703600"/>
                <a:ext cx="864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Line 22"/>
              <p:cNvSpPr/>
              <p:nvPr/>
            </p:nvSpPr>
            <p:spPr>
              <a:xfrm flipH="1">
                <a:off x="3418920" y="2703600"/>
                <a:ext cx="865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25"/>
              <p:cNvSpPr/>
              <p:nvPr/>
            </p:nvSpPr>
            <p:spPr>
              <a:xfrm>
                <a:off x="4456800" y="3279600"/>
                <a:ext cx="79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Text Box 26"/>
              <p:cNvSpPr/>
              <p:nvPr/>
            </p:nvSpPr>
            <p:spPr>
              <a:xfrm>
                <a:off x="232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Text Box 27"/>
              <p:cNvSpPr/>
              <p:nvPr/>
            </p:nvSpPr>
            <p:spPr>
              <a:xfrm>
                <a:off x="6739200" y="2990880"/>
                <a:ext cx="506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Calibri"/>
                  </a:rPr>
                  <a:t>-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4" name="Прямоугольник 24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Объект 1"/>
              <p:cNvSpPr txBox="1"/>
              <p:nvPr/>
            </p:nvSpPr>
            <p:spPr>
              <a:xfrm>
                <a:off x="2844720" y="4076640"/>
                <a:ext cx="388944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187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611280" y="13413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рность молеку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9" name="Group 37"/>
          <p:cNvGrpSpPr/>
          <p:nvPr/>
        </p:nvGrpSpPr>
        <p:grpSpPr>
          <a:xfrm>
            <a:off x="1547640" y="2131920"/>
            <a:ext cx="2859120" cy="2304720"/>
            <a:chOff x="1547640" y="2131920"/>
            <a:chExt cx="2859120" cy="2304720"/>
          </a:xfrm>
        </p:grpSpPr>
        <p:sp>
          <p:nvSpPr>
            <p:cNvPr id="190" name="Oval 4"/>
            <p:cNvSpPr/>
            <p:nvPr/>
          </p:nvSpPr>
          <p:spPr>
            <a:xfrm>
              <a:off x="3492360" y="2850840"/>
              <a:ext cx="914400" cy="914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 Box 5"/>
            <p:cNvSpPr/>
            <p:nvPr/>
          </p:nvSpPr>
          <p:spPr>
            <a:xfrm>
              <a:off x="3709800" y="299556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2" name="Group 8"/>
            <p:cNvGrpSpPr/>
            <p:nvPr/>
          </p:nvGrpSpPr>
          <p:grpSpPr>
            <a:xfrm>
              <a:off x="2195640" y="3787560"/>
              <a:ext cx="718920" cy="649080"/>
              <a:chOff x="2195640" y="3787560"/>
              <a:chExt cx="718920" cy="649080"/>
            </a:xfrm>
          </p:grpSpPr>
          <p:sp>
            <p:nvSpPr>
              <p:cNvPr id="193" name="Oval 6"/>
              <p:cNvSpPr/>
              <p:nvPr/>
            </p:nvSpPr>
            <p:spPr>
              <a:xfrm>
                <a:off x="2195640" y="378756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 Box 7"/>
              <p:cNvSpPr/>
              <p:nvPr/>
            </p:nvSpPr>
            <p:spPr>
              <a:xfrm>
                <a:off x="2266920" y="378756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9"/>
            <p:cNvGrpSpPr/>
            <p:nvPr/>
          </p:nvGrpSpPr>
          <p:grpSpPr>
            <a:xfrm>
              <a:off x="2197080" y="2131920"/>
              <a:ext cx="718920" cy="649080"/>
              <a:chOff x="2197080" y="2131920"/>
              <a:chExt cx="718920" cy="649080"/>
            </a:xfrm>
          </p:grpSpPr>
          <p:sp>
            <p:nvSpPr>
              <p:cNvPr id="196" name="Oval 10"/>
              <p:cNvSpPr/>
              <p:nvPr/>
            </p:nvSpPr>
            <p:spPr>
              <a:xfrm>
                <a:off x="2197080" y="2131920"/>
                <a:ext cx="718920" cy="649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11"/>
              <p:cNvSpPr/>
              <p:nvPr/>
            </p:nvSpPr>
            <p:spPr>
              <a:xfrm>
                <a:off x="2268360" y="2131920"/>
                <a:ext cx="5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Line 12"/>
            <p:cNvSpPr/>
            <p:nvPr/>
          </p:nvSpPr>
          <p:spPr>
            <a:xfrm flipH="1" flipV="1">
              <a:off x="2916000" y="2563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Line 13"/>
            <p:cNvSpPr/>
            <p:nvPr/>
          </p:nvSpPr>
          <p:spPr>
            <a:xfrm flipH="1">
              <a:off x="2916000" y="3571560"/>
              <a:ext cx="64764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1547640" y="2131920"/>
              <a:ext cx="624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 Box 32"/>
            <p:cNvSpPr/>
            <p:nvPr/>
          </p:nvSpPr>
          <p:spPr>
            <a:xfrm>
              <a:off x="1567440" y="3787560"/>
              <a:ext cx="58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 Box 33"/>
            <p:cNvSpPr/>
            <p:nvPr/>
          </p:nvSpPr>
          <p:spPr>
            <a:xfrm>
              <a:off x="2716920" y="2995560"/>
              <a:ext cx="712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Group 38"/>
          <p:cNvGrpSpPr/>
          <p:nvPr/>
        </p:nvGrpSpPr>
        <p:grpSpPr>
          <a:xfrm>
            <a:off x="4354560" y="1557360"/>
            <a:ext cx="2247840" cy="3456000"/>
            <a:chOff x="4354560" y="1557360"/>
            <a:chExt cx="2247840" cy="3456000"/>
          </a:xfrm>
        </p:grpSpPr>
        <p:sp>
          <p:nvSpPr>
            <p:cNvPr id="204" name="Line 17"/>
            <p:cNvSpPr/>
            <p:nvPr/>
          </p:nvSpPr>
          <p:spPr>
            <a:xfrm flipV="1">
              <a:off x="4354560" y="2495520"/>
              <a:ext cx="86508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>
              <a:off x="4356000" y="3572640"/>
              <a:ext cx="79236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427640" y="328608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20"/>
            <p:cNvSpPr/>
            <p:nvPr/>
          </p:nvSpPr>
          <p:spPr>
            <a:xfrm>
              <a:off x="5219640" y="2565360"/>
              <a:ext cx="865080" cy="720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ine 21"/>
            <p:cNvSpPr/>
            <p:nvPr/>
          </p:nvSpPr>
          <p:spPr>
            <a:xfrm flipH="1">
              <a:off x="5076720" y="3286080"/>
              <a:ext cx="1008000" cy="8636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27"/>
                <p:cNvSpPr txBox="1"/>
                <p:nvPr/>
              </p:nvSpPr>
              <p:spPr>
                <a:xfrm>
                  <a:off x="4932360" y="1557360"/>
                  <a:ext cx="5842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0" name="Object 29"/>
                <p:cNvSpPr txBox="1"/>
                <p:nvPr/>
              </p:nvSpPr>
              <p:spPr>
                <a:xfrm>
                  <a:off x="4842000" y="4078440"/>
                  <a:ext cx="62208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limUpp>
                            <m:e>
                              <m:r>
                                <m:t xml:space="preserve">μ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1" name="Object 30"/>
                <p:cNvSpPr txBox="1"/>
                <p:nvPr/>
              </p:nvSpPr>
              <p:spPr>
                <a:xfrm>
                  <a:off x="6135840" y="2638440"/>
                  <a:ext cx="46656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μ</m:t>
                          </m:r>
                        </m:e>
                        <m:lim>
                          <m:r>
                            <m:t xml:space="preserve">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2" name="Объект 1"/>
              <p:cNvSpPr txBox="1"/>
              <p:nvPr/>
            </p:nvSpPr>
            <p:spPr>
              <a:xfrm>
                <a:off x="1908000" y="4869000"/>
                <a:ext cx="525636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limUpp>
                          <m:e>
                            <m:r>
                              <m:t xml:space="preserve">μ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r>
                          <m:t xml:space="preserve">μ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4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262728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ическ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7" descr=""/>
          <p:cNvPicPr/>
          <p:nvPr/>
        </p:nvPicPr>
        <p:blipFill>
          <a:blip r:embed="rId2"/>
          <a:stretch/>
        </p:blipFill>
        <p:spPr>
          <a:xfrm>
            <a:off x="2556000" y="1989000"/>
            <a:ext cx="3997080" cy="43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8" descr=""/>
          <p:cNvPicPr/>
          <p:nvPr/>
        </p:nvPicPr>
        <p:blipFill>
          <a:blip r:embed="rId2"/>
          <a:stretch/>
        </p:blipFill>
        <p:spPr>
          <a:xfrm>
            <a:off x="4626000" y="2016000"/>
            <a:ext cx="4103640" cy="4105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3"/>
          <a:stretch/>
        </p:blipFill>
        <p:spPr>
          <a:xfrm>
            <a:off x="539640" y="1962000"/>
            <a:ext cx="38163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987640" y="1197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1262160" y="2133720"/>
            <a:ext cx="6618240" cy="28080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1"/>
          <p:cNvSpPr/>
          <p:nvPr/>
        </p:nvSpPr>
        <p:spPr>
          <a:xfrm>
            <a:off x="108000" y="5516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-салициловый альдегид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 – гидроксибензальдегид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3"/>
          <p:cNvSpPr/>
          <p:nvPr/>
        </p:nvSpPr>
        <p:spPr>
          <a:xfrm>
            <a:off x="2340000" y="1268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Ван-дер-Вааль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2"/>
          <a:stretch/>
        </p:blipFill>
        <p:spPr>
          <a:xfrm>
            <a:off x="843120" y="2060640"/>
            <a:ext cx="2358720" cy="333684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1"/>
          <p:cNvSpPr/>
          <p:nvPr/>
        </p:nvSpPr>
        <p:spPr>
          <a:xfrm>
            <a:off x="-263520" y="573264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н Дидерик Ван-дер-Ваа́ль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ноября 1837 — 8 марта 192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Объект 18"/>
              <p:cNvSpPr txBox="1"/>
              <p:nvPr/>
            </p:nvSpPr>
            <p:spPr>
              <a:xfrm>
                <a:off x="5264280" y="2311560"/>
                <a:ext cx="204444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К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Объект 19"/>
              <p:cNvSpPr txBox="1"/>
              <p:nvPr/>
            </p:nvSpPr>
            <p:spPr>
              <a:xfrm>
                <a:off x="5189400" y="3828960"/>
                <a:ext cx="19749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L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Объект 20"/>
              <p:cNvSpPr txBox="1"/>
              <p:nvPr/>
            </p:nvSpPr>
            <p:spPr>
              <a:xfrm>
                <a:off x="5334120" y="5499000"/>
                <a:ext cx="20509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hυ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Rectangle 22"/>
          <p:cNvSpPr/>
          <p:nvPr/>
        </p:nvSpPr>
        <p:spPr>
          <a:xfrm>
            <a:off x="3815640" y="9036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Прямоугольник 26"/>
          <p:cNvSpPr/>
          <p:nvPr/>
        </p:nvSpPr>
        <p:spPr>
          <a:xfrm>
            <a:off x="4450680" y="191628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оль-диполь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Прямоугольник 27"/>
          <p:cNvSpPr/>
          <p:nvPr/>
        </p:nvSpPr>
        <p:spPr>
          <a:xfrm>
            <a:off x="4554720" y="342900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укц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Прямоугольник 29"/>
          <p:cNvSpPr/>
          <p:nvPr/>
        </p:nvSpPr>
        <p:spPr>
          <a:xfrm>
            <a:off x="4708440" y="49975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9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сионное взаимодейств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5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576360" y="2187720"/>
            <a:ext cx="2735280" cy="34210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3843360" y="4365720"/>
            <a:ext cx="48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выдвинул гипотезу, которая легла в основу теории ионной химической связи и гетеровален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3843360" y="2216160"/>
            <a:ext cx="5121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ьтер Коссель (нем. Walther Kossel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января 1888 — 22 мая 1956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348000" y="119700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он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792000" y="1989000"/>
            <a:ext cx="7417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+Cl=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ние ион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разование молекулы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-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   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+ ē =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s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p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-66600" y="247320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лберт Ньютон Льюис (англ. Gilbert Newton Lewi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3 октября 1875 — 23 марта 1946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6713640" y="2473200"/>
            <a:ext cx="2342880" cy="3240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93680" y="4149720"/>
            <a:ext cx="64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6 Льюис высказал идею, что ковалентная химическая связь образуется за счёт обобществления пары электронов, то есть электронная плотность распределяется между двумя ато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792000" y="1690560"/>
            <a:ext cx="67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валентных связей (метод В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2475000" y="2421000"/>
            <a:ext cx="4282920" cy="1512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1614600" y="4149720"/>
            <a:ext cx="602280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971640" y="2333520"/>
            <a:ext cx="75610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169920" y="2133720"/>
            <a:ext cx="4232160" cy="403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4610160" y="3284640"/>
            <a:ext cx="4462560" cy="1584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619280" y="61358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6378120" y="614664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Calibri"/>
              </a:rPr>
              <a:t>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связ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8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Logo dstu(конечный)"/>
          <p:cNvPicPr/>
          <p:nvPr/>
        </p:nvPicPr>
        <p:blipFill>
          <a:blip r:embed="rId1"/>
          <a:stretch/>
        </p:blipFill>
        <p:spPr>
          <a:xfrm>
            <a:off x="324000" y="81000"/>
            <a:ext cx="938160" cy="1008000"/>
          </a:xfrm>
          <a:prstGeom prst="rect">
            <a:avLst/>
          </a:prstGeom>
          <a:ln w="0">
            <a:noFill/>
          </a:ln>
        </p:spPr>
      </p:pic>
      <p:sp>
        <p:nvSpPr>
          <p:cNvPr id="91" name="Заголовок 1"/>
          <p:cNvSpPr/>
          <p:nvPr/>
        </p:nvSpPr>
        <p:spPr>
          <a:xfrm>
            <a:off x="179280" y="0"/>
            <a:ext cx="8893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ской государственный технический университе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Кафедра «Хими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11280" y="2982960"/>
            <a:ext cx="3852720" cy="2246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4811760" y="2484360"/>
            <a:ext cx="4130640" cy="324828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2771640" y="119700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нтная связ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7"/>
          <p:cNvSpPr/>
          <p:nvPr/>
        </p:nvSpPr>
        <p:spPr>
          <a:xfrm>
            <a:off x="792000" y="166680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молекулярных орбиталей(метод М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0:35:54Z</dcterms:created>
  <dc:creator>Кужаров</dc:creator>
  <dc:description/>
  <dc:language>en-US</dc:language>
  <cp:lastModifiedBy>Кужаров</cp:lastModifiedBy>
  <dcterms:modified xsi:type="dcterms:W3CDTF">2011-09-13T09:29:52Z</dcterms:modified>
  <cp:revision>25</cp:revision>
  <dc:subject/>
  <dc:title>            Донской государственный технический университет      Кафедра «Химия» ________________________________________________________</dc:title>
</cp:coreProperties>
</file>