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png" ContentType="image/png"/>
  <Override PartName="/ppt/media/image6.jpeg" ContentType="image/jpeg"/>
  <Override PartName="/ppt/media/image5.wmf" ContentType="image/x-wmf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.jpeg" ContentType="image/jpeg"/>
  <Override PartName="/ppt/media/image15.wmf" ContentType="image/x-wmf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55E0-D607-42A3-BDE5-6841171A7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F9C0-13B8-41F5-A104-71563CDA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18D0-480A-45D0-A087-A3373D66A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2BB3-67C9-4239-81CB-F32F3AAF8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9C83-84E5-4845-8291-BD712E81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ACBD-CDCE-45CD-929D-D2BDC387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4E06-0DCC-44CB-80E3-6D106CD1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577E-3C75-42BA-A988-6125AC4E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12AA-87A7-462E-92A5-5E33EADA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ED45-CCFF-4FD0-8BA7-55E8ED74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69D4-2742-4063-909C-0F37CD70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5C19-AC40-41DF-9D35-0346115B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A17BD-61A6-410B-855E-0C08071AF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1.jpe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0;&#1090;&#1086;&#1084;&#1085;&#1072;&#1103;_&#1084;&#1072;&#1089;&#1089;&#1072;" TargetMode="External"/><Relationship Id="rId2" Type="http://schemas.openxmlformats.org/officeDocument/2006/relationships/hyperlink" Target="http://ru.wikipedia.org/wiki/&#1041;&#1077;&#1088;&#1080;&#1083;&#1083;&#1080;&#1081;" TargetMode="External"/><Relationship Id="rId3" Type="http://schemas.openxmlformats.org/officeDocument/2006/relationships/hyperlink" Target="http://ru.wikipedia.org/wiki/&#1048;&#1085;&#1076;&#1080;&#1081;" TargetMode="External"/><Relationship Id="rId4" Type="http://schemas.openxmlformats.org/officeDocument/2006/relationships/hyperlink" Target="http://ru.wikipedia.org/wiki/&#1059;&#1088;&#1072;&#1085;_(&#1101;&#1083;&#1077;&#1084;&#1077;&#1085;&#1090;)" TargetMode="External"/><Relationship Id="rId5" Type="http://schemas.openxmlformats.org/officeDocument/2006/relationships/hyperlink" Target="http://ru.wikipedia.org/wiki/&#1058;&#1086;&#1088;&#1080;&#1081;" TargetMode="External"/><Relationship Id="rId6" Type="http://schemas.openxmlformats.org/officeDocument/2006/relationships/hyperlink" Target="http://ru.wikipedia.org/wiki/&#1062;&#1077;&#1088;&#1080;&#1081;" TargetMode="External"/><Relationship Id="rId7" Type="http://schemas.openxmlformats.org/officeDocument/2006/relationships/image" Target="../media/image15.wmf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кция 2.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Периодический закон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  Д.И. Менделе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223640" cy="1152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95640" y="549360"/>
            <a:ext cx="6430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Донской государственный технический университ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Факультет нанотехнологии и композиционные материалы</a:t>
            </a: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Кафедра «Хим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370920" y="4365720"/>
            <a:ext cx="132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Кужаров А.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Новик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0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уктура современной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иодической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7200720" cy="5100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715160" y="2421000"/>
            <a:ext cx="1428840" cy="2160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539640" y="2781360"/>
            <a:ext cx="1505160" cy="828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219640" y="2133720"/>
            <a:ext cx="1524240" cy="838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3780000" y="2997360"/>
            <a:ext cx="1523880" cy="828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5435640" y="2997360"/>
            <a:ext cx="1542960" cy="828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2916360" y="3860640"/>
            <a:ext cx="3162240" cy="8668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он Моз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29527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вадратный корень из частоты для каждой линии спектра рентгеновских лучей есть приблизительно линейная функция атомного номер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постоянная Ридбер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постоянная экран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— главное квантовое чис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\sqrt{\frac{\nu}{R}} = \frac{Z-S_n}{n}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611280" y="3068640"/>
            <a:ext cx="2232000" cy="755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960720" y="1125360"/>
            <a:ext cx="5183280" cy="4125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547640" y="2997360"/>
            <a:ext cx="7417080" cy="9363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08" name=""/>
          <p:cNvSpPr/>
          <p:nvPr/>
        </p:nvSpPr>
        <p:spPr>
          <a:xfrm flipH="1">
            <a:off x="5076360" y="2276640"/>
            <a:ext cx="358920" cy="6476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80000" y="1700280"/>
            <a:ext cx="4824360" cy="57636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274680"/>
            <a:ext cx="70675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Причины период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1979640" y="1052640"/>
          <a:ext cx="5759280" cy="5556240"/>
        </p:xfrm>
        <a:graphic>
          <a:graphicData uri="http://schemas.openxmlformats.org/drawingml/2006/table">
            <a:tbl>
              <a:tblPr/>
              <a:tblGrid>
                <a:gridCol w="716040"/>
                <a:gridCol w="2008080"/>
                <a:gridCol w="303516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ческий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м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онная формул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ru-RU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s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p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23640" y="259920"/>
            <a:ext cx="657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временная формулировка Периодического зак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Свойства химических элементов находятся в периодической зависимости от заряда ядер атомов химических элемен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висимость радиуса атома от порядкового номера эле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1314360"/>
            <a:ext cx="8964720" cy="52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нергия ион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258920" y="2924280"/>
          <a:ext cx="6443640" cy="730080"/>
        </p:xfrm>
        <a:graphic>
          <a:graphicData uri="http://schemas.openxmlformats.org/drawingml/2006/table">
            <a:tbl>
              <a:tblPr/>
              <a:tblGrid>
                <a:gridCol w="804960"/>
                <a:gridCol w="806400"/>
                <a:gridCol w="804960"/>
                <a:gridCol w="806400"/>
                <a:gridCol w="804600"/>
                <a:gridCol w="804960"/>
                <a:gridCol w="806400"/>
                <a:gridCol w="8049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424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нергией ионизации (потенциалом ионизации) - работа, необходимая для отрыва электрона от нейтрального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 – ē = Э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227664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вый потенциал ионизации элементов третьего пери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700360" y="4797360"/>
          <a:ext cx="4032000" cy="1152360"/>
        </p:xfrm>
        <a:graphic>
          <a:graphicData uri="http://schemas.openxmlformats.org/drawingml/2006/table">
            <a:tbl>
              <a:tblPr/>
              <a:tblGrid>
                <a:gridCol w="2275560"/>
                <a:gridCol w="1756440"/>
              </a:tblGrid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- ē=Li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3,39 э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ē=Li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75,62 э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ē=Li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r>
                        <a:rPr b="0" lang="ru-RU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122,42 э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971640" y="393372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торой и третий потенциал ионизации значительно выше, чем первый, 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63280" y="259920"/>
            <a:ext cx="7380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висимость первого потенциала ионизации от порядкового номера элем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нергия сродства к электро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24000" y="3357720"/>
          <a:ext cx="8362800" cy="793440"/>
        </p:xfrm>
        <a:graphic>
          <a:graphicData uri="http://schemas.openxmlformats.org/drawingml/2006/table">
            <a:tbl>
              <a:tblPr/>
              <a:tblGrid>
                <a:gridCol w="1234800"/>
                <a:gridCol w="1017720"/>
                <a:gridCol w="1019160"/>
                <a:gridCol w="1017720"/>
                <a:gridCol w="1019160"/>
                <a:gridCol w="1017360"/>
                <a:gridCol w="1019160"/>
                <a:gridCol w="1017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0" lang="ru-RU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в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личество энергии, выделяемое нейтральным атомом, находящимся в состоянии с наименьшей энергией, при присоединении к нему одного электро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 + ē = Э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484360" y="5300640"/>
          <a:ext cx="4038480" cy="968400"/>
        </p:xfrm>
        <a:graphic>
          <a:graphicData uri="http://schemas.openxmlformats.org/drawingml/2006/table">
            <a:tbl>
              <a:tblPr/>
              <a:tblGrid>
                <a:gridCol w="1101600"/>
                <a:gridCol w="1101600"/>
                <a:gridCol w="1101960"/>
                <a:gridCol w="73332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2050920" y="285264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менение сродства к электрону по период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47640" y="458136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менение сродства к электрону по подгруппе, э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47640" y="260280"/>
            <a:ext cx="71503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ктроотрица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Мера относительной способности  атомов оттягивать на себя общую электронную пару при образовании химической связ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.О.=J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Е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с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46280" y="88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26920" y="2133720"/>
          <a:ext cx="7056360" cy="4089240"/>
        </p:xfrm>
        <a:graphic>
          <a:graphicData uri="http://schemas.openxmlformats.org/drawingml/2006/table">
            <a:tbl>
              <a:tblPr/>
              <a:tblGrid>
                <a:gridCol w="388800"/>
                <a:gridCol w="793800"/>
                <a:gridCol w="622440"/>
                <a:gridCol w="498240"/>
                <a:gridCol w="685800"/>
                <a:gridCol w="747720"/>
                <a:gridCol w="935280"/>
                <a:gridCol w="834840"/>
                <a:gridCol w="595440"/>
                <a:gridCol w="531720"/>
                <a:gridCol w="422280"/>
              </a:tblGrid>
              <a:tr h="231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10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лектроотрицательность элемент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I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              0.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             1.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            2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              1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g           1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            1.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          1.7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   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8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                                                                  0.9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                                  1.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       1.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n            1.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             1.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         2.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7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r              0.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       1.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d 1.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0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d                  1.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   1.4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           0.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1.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f           1.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t 1.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g                                  1.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1.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b             1.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h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           0.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      1.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Лантаноиды- 1.08-1.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Актиноиды   1.00-1.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11280" y="6308640"/>
            <a:ext cx="792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Таблица электроотрицательности по Полинг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Рекомендуемая литератур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Кужаров А.С. Общая химия в машиностроительном ВУЗЕ. Конспект лекций для инженеров, Ростов-на-Дону, 199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Ахметов Н.С. Общая и неорганическая химия, М.,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Глинка Н.Л. Общая химия, М., 200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d06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06aa"/>
                </a:solidFill>
                <a:latin typeface="Arial"/>
              </a:rPr>
              <a:t>Некрасов Б.В. Курс обшей химии, М., 1962 –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.В.Коровин Общая химия, М.: Высшая школа,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.И.Гельфман, В.П.Юстратов Химия, СПб.: Лань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chemistry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chem.msu.su/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тория открытия. Предшествен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752720" cy="33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378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ло триад Дёберейн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1829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расположить три сходных по химическим свойствам элемента в порядке возрастания их атомных весов, то атомный вес второго элемента будет равен среднему арифметическому атомных весов первого и треть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Литий Li: 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Li)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6,941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а.е.м</a:t>
            </a:r>
            <a:r>
              <a:rPr b="0" lang="ru-RU" sz="1800" spc="-1" strike="noStrike" baseline="-25000">
                <a:solidFill>
                  <a:srgbClr val="0099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Натрий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Na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a)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= 2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99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а.е.м.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Калий K: 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K) =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39,1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02 </a:t>
            </a:r>
            <a:r>
              <a:rPr b="0" lang="ru-RU" sz="1800" spc="-1" strike="noStrike">
                <a:solidFill>
                  <a:srgbClr val="009999"/>
                </a:solidFill>
                <a:latin typeface="Arial"/>
              </a:rPr>
              <a:t>а.е.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Na)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=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 ½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Li)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+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9999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)) ≈ 23,0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а.е.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9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292720" y="981000"/>
            <a:ext cx="2949480" cy="2268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651640" y="3284640"/>
            <a:ext cx="2222280" cy="2763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095080" y="6093000"/>
            <a:ext cx="318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Иоганн Вольфганг Дёберейнер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1780-184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6645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ираль Шанкурту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5280" y="3075120"/>
            <a:ext cx="4105440" cy="3552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00000" y="1197000"/>
            <a:ext cx="3278160" cy="1803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724360" y="3141720"/>
            <a:ext cx="2232360" cy="2951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866480" y="6093000"/>
            <a:ext cx="399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Александр Эмиль Бегуйе де Шанкурту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1820-18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11640" y="981000"/>
            <a:ext cx="45720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Земная спираль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анкурту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1862 г.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боковую поверхность цилиндра, разделенную на 16 частей, нанесена линия под углом 45°, на которой отмечены точки, соответствующие атомным весам элемент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ходные по свойствам элементы группируются на одной вертикальной ли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25092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9280" y="115560"/>
            <a:ext cx="678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он октав Ньюленд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227640" y="3357720"/>
            <a:ext cx="1951200" cy="2681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4000" y="4076640"/>
            <a:ext cx="4968720" cy="25084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81520" y="692280"/>
            <a:ext cx="346248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1865 г. Ньюлендс опубликовал таблицу элементов, назвав её «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коном окта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омера аналогичных элементо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как правило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личаютс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целое число сем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или на кратное семи; другими словами, члены одной и той же группы соотносятся друг с другом в том же отношении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к и крайние точки одной или больш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ктав в музык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03640" y="6058080"/>
            <a:ext cx="397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Джон Александр Рейна Ньюлендс, 1837-1898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79280" y="1268280"/>
            <a:ext cx="5364360" cy="2881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79280" y="1341360"/>
            <a:ext cx="432000" cy="28796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4005360"/>
            <a:ext cx="1079640" cy="7207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1871640" y="4473360"/>
            <a:ext cx="71280" cy="1871640"/>
          </a:xfrm>
          <a:custGeom>
            <a:avLst/>
            <a:gdLst>
              <a:gd name="textAreaLeft" fmla="*/ 45720 w 71280"/>
              <a:gd name="textAreaRight" fmla="*/ 71640 w 71280"/>
              <a:gd name="textAreaTop" fmla="*/ 48600 h 1871640"/>
              <a:gd name="textAreaBottom" fmla="*/ 1823040 h 18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0920" y="1628640"/>
            <a:ext cx="64800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79280" y="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блица Мейе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372360" y="3716280"/>
            <a:ext cx="2090520" cy="24764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867280" y="836640"/>
            <a:ext cx="327672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864 г. Мейер опубликовал таблицу из 28 элементов, группируя их по валентности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rtig}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н ограничил число элементов, чтобы подчеркнуть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акономерное изменение атомной массы в рядах подобных элем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блица 1870 г. состояла из девяти столбц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которые ячейки таблицы Мейер оставил незаполненны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51640" y="6276960"/>
            <a:ext cx="32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Юлиус Лотар Мейер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Arial"/>
              </a:rPr>
              <a:t>1830-189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660640"/>
            <a:ext cx="41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аблица Мейера 1864 г. (фрагмен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5830920" cy="37641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67280" y="4724280"/>
            <a:ext cx="1009440" cy="433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1280" y="2349360"/>
            <a:ext cx="540072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.И. Менделе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124000" y="692280"/>
            <a:ext cx="2195640" cy="2447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859280" y="692280"/>
            <a:ext cx="1973160" cy="2519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5280" y="335772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МЕНДЕЛЕЕВ Дмитрий Иванович (1834-1907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оссийский химик, разносторонний ученый, педаго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крыл (1869) периодический закон химических элементов — один из основных законов естествозн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тавил св. 500 печатных трудов, среди которых классические «Основы химии» (ч. 1-2, 1869-71, 13 изд., 1947) — первое стройное изложение неорганической хим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втор фундаментальных исследований по химии, химической технологии, физике, метрологии, воздухоплаванию, метеорологии, сельскому хозяйству, экономике, народному просвещению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ложил основы теории растворов, предложил промышленный способ фракционного разделения нефти, изобрел вид бездымного пороха, пропагандировал использование минеральных удобрений, орошение засушливых земел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дин из инициаторов создания Русского химического общества (1868). Профессор Петербургского университета (1865-90), ушел в отставку в знак протеста против притеснения студенче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рганизатор и первый директор (1893) Главной палаты мер и весов (ныне ВНИИ метрологии им. Менделеев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95640" y="115560"/>
            <a:ext cx="6130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рвая формулировка 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ериодического зак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716000" y="1628640"/>
            <a:ext cx="4248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марта 186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г. Д.И. Менделеев опубликовал (в Журнале Русского Химического Общества) первую статью о периодическом законе на русском и французском языках, где впервые сформулировал Периодический зако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«…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войства элементов, а потому и свойства образуемых ими простых и сложных тел состоят в периодической зависимости от их атомного веса…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Таблица «Опыт системы элементов» (Д. И. Менделеев; 1869)"/>
          <p:cNvPicPr/>
          <p:nvPr/>
        </p:nvPicPr>
        <p:blipFill>
          <a:blip r:embed="rId1"/>
          <a:stretch/>
        </p:blipFill>
        <p:spPr>
          <a:xfrm>
            <a:off x="395280" y="1052640"/>
            <a:ext cx="4392720" cy="5805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122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щность открытия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.И. Менделе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518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щность открытия Менделеев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с ростом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атомной масс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химических элементов их свойства меняютс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 монотонно, а периодичес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личи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т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енделеева от работ предшественников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лассификация всех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звестных к тому времен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лемент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 основе их атомных масс и химических свой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прави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томные масс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екоторых элементов (например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берилл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инд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ура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тор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цер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титана, иттр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змести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сколько элементов в своей системе вопреки принятым в то время представления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б их сходстве с другими (например, таллий, считавшийся щелочным металлом, он поместил в третью группу согласно его фактической максимальной валентности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тави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таблице пустые клетк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где должны были разместиться пока не открытые элементы. В 1875-1866 гг. открыты галлий (экаалюминий), скандий (экабор) и германий (экасилиц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7">
            <a:lum bright="4000"/>
          </a:blip>
          <a:stretch/>
        </p:blipFill>
        <p:spPr>
          <a:xfrm rot="5400000">
            <a:off x="6147360" y="1565640"/>
            <a:ext cx="2143080" cy="3421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649840" y="4508640"/>
            <a:ext cx="28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Первая периодическая табли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324000" y="189000"/>
            <a:ext cx="12236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17:45:22Z</dcterms:created>
  <dc:creator>Toshiba</dc:creator>
  <dc:description/>
  <dc:language>en-US</dc:language>
  <cp:lastModifiedBy>User</cp:lastModifiedBy>
  <dcterms:modified xsi:type="dcterms:W3CDTF">2011-09-15T08:00:20Z</dcterms:modified>
  <cp:revision>141</cp:revision>
  <dc:subject/>
  <dc:title>Периодический закон  Д.И. Менделеева</dc:title>
</cp:coreProperties>
</file>