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B019-5DF6-4D1E-8BAB-049C3222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F6C-FC53-4CEA-8FA5-32EA3492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FB70-75AA-44D8-9ED7-339074F4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96B-EA0A-4FE1-9700-6D86D64D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CAB2-D268-48D1-9840-021746A9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F28-3473-4D42-947D-F6C18717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AE6-0F83-4977-AB4A-D6C8457A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8675-1A1B-42A0-8246-5AA0181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CF89-0715-46B0-8AF6-3D617D12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2E6-274B-4FC2-9C3A-C806DADC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3A3-5BD5-45C4-9899-14E4E31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336-ECF0-4CEC-9AC2-F27E4E4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5C73-144D-4993-AACA-855D5815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rId2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endshow"/>
          </p:cNvPr>
          <p:cNvSpPr/>
          <p:nvPr/>
        </p:nvSpPr>
        <p:spPr>
          <a:xfrm>
            <a:off x="7451640" y="6669000"/>
            <a:ext cx="432000" cy="189000"/>
          </a:xfrm>
          <a:custGeom>
            <a:avLst/>
            <a:gdLst>
              <a:gd name="textAreaLeft" fmla="*/ 12240 w 432000"/>
              <a:gd name="textAreaRight" fmla="*/ 419760 w 432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49319" h="21600">
                <a:moveTo>
                  <a:pt x="0" y="0"/>
                </a:moveTo>
                <a:lnTo>
                  <a:pt x="49319" y="0"/>
                </a:lnTo>
                <a:lnTo>
                  <a:pt x="49319" y="21600"/>
                </a:lnTo>
                <a:lnTo>
                  <a:pt x="0" y="21600"/>
                </a:lnTo>
                <a:close/>
              </a:path>
              <a:path fill="lightenLess" w="49319" h="21600">
                <a:moveTo>
                  <a:pt x="0" y="0"/>
                </a:moveTo>
                <a:lnTo>
                  <a:pt x="49319" y="0"/>
                </a:lnTo>
                <a:lnTo>
                  <a:pt x="47919" y="1400"/>
                </a:lnTo>
                <a:lnTo>
                  <a:pt x="1400" y="1400"/>
                </a:lnTo>
                <a:close/>
              </a:path>
              <a:path fill="darken" w="49319" h="21600">
                <a:moveTo>
                  <a:pt x="49319" y="0"/>
                </a:moveTo>
                <a:lnTo>
                  <a:pt x="49319" y="21600"/>
                </a:lnTo>
                <a:lnTo>
                  <a:pt x="47919" y="20200"/>
                </a:lnTo>
                <a:lnTo>
                  <a:pt x="47919" y="1400"/>
                </a:lnTo>
                <a:close/>
              </a:path>
              <a:path fill="darkenLess" w="49319" h="21600">
                <a:moveTo>
                  <a:pt x="493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919" y="20200"/>
                </a:lnTo>
                <a:close/>
              </a:path>
              <a:path fill="lighten" w="493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211640" y="2781360"/>
            <a:ext cx="4464000" cy="2449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cc00"/>
              </a:gs>
              <a:gs pos="50000">
                <a:srgbClr val="ccff33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Лекция №6</a:t>
            </a:r>
            <a:r>
              <a:rPr b="1" i="1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717720" cy="4753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24000" y="333360"/>
            <a:ext cx="81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ислительно-восстановительные  реакции</a:t>
            </a:r>
            <a:endParaRPr b="1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538-CDA0-4552-8CAE-92522470A05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8360" y="0"/>
            <a:ext cx="82296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3300"/>
                </a:solidFill>
                <a:latin typeface="Arial"/>
              </a:rPr>
              <a:t>Важнейшие восстановители и окисли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0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8D6-51F8-459E-9ABB-1194051AC7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Элементы в промежуточной степени окисления. H2+O–2. 2О– +2е?2О-2. H2+O2–. 2О– -2е? О20. О20. S+4 +6e ? S–2. Na2S–2. Na2S+4O3. S0. S+4 +4e ? S0. S+4 – 2e ? S+6. Na2S+6O4."/>
          <p:cNvPicPr/>
          <p:nvPr/>
        </p:nvPicPr>
        <p:blipFill>
          <a:blip r:embed="rId1"/>
          <a:srcRect l="0" t="6593" r="0" b="8973"/>
          <a:stretch/>
        </p:blipFill>
        <p:spPr>
          <a:xfrm>
            <a:off x="324000" y="260280"/>
            <a:ext cx="8424720" cy="631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A38-5071-4F72-A70D-D822ED5343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Типы ОВР. 2сu0 +O20? 2cu2+o2–. 3H2S?2 +H2S+6O4 ? 4S0 + 4H2O. 6KI? + 4H2S+6O4 ? 3I20+S0 +3K2SO4+4H2O. (N–3H4)2Cr2+6O7 (t0) ? N20 + Cr2+3O3 + 4H2O. 2NaN+5O3–2 ? 2NaN+3O2 + O20. Межмолекулярные. Внутримолекулярные. Диспропорционирование. KCl+5O3–2 ? 2KCl– + 3O20. 4KCl+5O3?KCl?+3KCl+7O4. Cl20 + 2KOH ? KCl? +KCl+1O +H2O. 4Na2S+4O3 ? Na2S?2 + 3Na2S+6O4."/>
          <p:cNvPicPr/>
          <p:nvPr/>
        </p:nvPicPr>
        <p:blipFill>
          <a:blip r:embed="rId1"/>
          <a:srcRect l="0" t="4367" r="0" b="6747"/>
          <a:stretch/>
        </p:blipFill>
        <p:spPr>
          <a:xfrm>
            <a:off x="684360" y="1239840"/>
            <a:ext cx="7416720" cy="556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682560" y="25848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718-1237-4D36-A9B7-A114196ECD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Межмолекулярные окислительно-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кислитель и восстановитель находятся в разных веществах; обмен электронами в этих реакциях происходит между различными атомами или молеку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7960" y="219600"/>
            <a:ext cx="7790400" cy="13197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ассификация окислительно-восстановительных реакци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03280" y="3429000"/>
            <a:ext cx="6042240" cy="2168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1280" y="5516640"/>
            <a:ext cx="78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юда же относятся реакции между веществами, в которых атомы одного и того же элемента имеют разные степени ок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629928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D21-6455-4430-B87E-F264050898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Внутримолекулярные окислительно- восстановительные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268280"/>
            <a:ext cx="85690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нутримолекулярны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кциях окислитель и восстановитель находятс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 одной и той ж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леку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имолекулярные реакции протекают, как правило, пр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ермическом разложе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ществ, содержащих окислитель и восстанов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3570120"/>
            <a:ext cx="914400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BC9-1DC8-4CC1-BFB4-3E6E25517A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Диспропорционирование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ая реакция, в которой один элемент одновременно повышает и понижает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3807000"/>
            <a:ext cx="9144000" cy="140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E49-D36E-4BE1-B9F9-DE1826977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       Электронный баланс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метод нахождения коэффициентов в уравнениях окислительно-восстановительных реакций, в котором рассматривается обмен электронами между атомами элементов, изменяющих свою степень окис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исло электронов, отданное восстановителем, равно числу электронов, получаемых окисл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5400" y="4528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2D7-2D0E-4FEB-8AB0-FD6F86AD83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06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одом электронного баланса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285840" y="1773360"/>
            <a:ext cx="88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 сравнени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степеней окисления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атомов в исходных веществах и продуктах реакции и на балансировании числа электронов, смещенных от  восстановителя к окислител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ля составления уравнений реакций, протекающих в любых фаз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этом универсальность и удобство мет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Недостаток мет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при выражении сущности реакций, протекающих в растворах, не отражается существование реальных част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0F4-7E43-4036-B134-E90945991E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20640"/>
            <a:ext cx="91440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ставить схему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степени окисления элементов в реагентах и продуктах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является реакция окислительно-восстановительной или она протекает без изменения степеней окислени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дчеркнуть элементы, степени окисления которых изменяю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, какой элемент окисляется (его степень окисления повышается) и какой элемент восстанавливается (его степень окисления понижается) в процесс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левой части схемы обозначить с помощью стрелок процесс окисления (смещение электронов от атома элемента) и процесс восстановления (смещение электронов к атому элемен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восстановитель и окисл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балансировать число электронов между окислителем и восстанови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ределить коэффициенты для окислителя и восстановителя, продуктов окисления и восстано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аписать коэффициент перед формулой вещества, определяющего среду раств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верить уравнение реа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7937640" cy="35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91A-5705-4701-9591-CBE147392E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1135080"/>
            <a:ext cx="6696000" cy="572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24960" y="156600"/>
            <a:ext cx="7916400" cy="9410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</a:t>
            </a: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3057-299D-4E49-8030-6B48E4862B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5280" y="189000"/>
            <a:ext cx="8497800" cy="1511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80000" y="981000"/>
            <a:ext cx="48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532720" y="6669000"/>
            <a:ext cx="611280" cy="189000"/>
          </a:xfrm>
          <a:custGeom>
            <a:avLst/>
            <a:gdLst>
              <a:gd name="textAreaLeft" fmla="*/ 12240 w 611280"/>
              <a:gd name="textAreaRight" fmla="*/ 599040 w 6112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9769" h="21600">
                <a:moveTo>
                  <a:pt x="0" y="0"/>
                </a:moveTo>
                <a:lnTo>
                  <a:pt x="69769" y="0"/>
                </a:lnTo>
                <a:lnTo>
                  <a:pt x="69769" y="21600"/>
                </a:lnTo>
                <a:lnTo>
                  <a:pt x="0" y="21600"/>
                </a:lnTo>
                <a:close/>
              </a:path>
              <a:path fill="lightenLess" w="69769" h="21600">
                <a:moveTo>
                  <a:pt x="0" y="0"/>
                </a:moveTo>
                <a:lnTo>
                  <a:pt x="69769" y="0"/>
                </a:lnTo>
                <a:lnTo>
                  <a:pt x="68369" y="1400"/>
                </a:lnTo>
                <a:lnTo>
                  <a:pt x="1400" y="1400"/>
                </a:lnTo>
                <a:close/>
              </a:path>
              <a:path fill="darken" w="69769" h="21600">
                <a:moveTo>
                  <a:pt x="69769" y="0"/>
                </a:moveTo>
                <a:lnTo>
                  <a:pt x="69769" y="21600"/>
                </a:lnTo>
                <a:lnTo>
                  <a:pt x="68369" y="20200"/>
                </a:lnTo>
                <a:lnTo>
                  <a:pt x="68369" y="1400"/>
                </a:lnTo>
                <a:close/>
              </a:path>
              <a:path fill="darkenLess" w="69769" h="21600">
                <a:moveTo>
                  <a:pt x="69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369" y="20200"/>
                </a:lnTo>
                <a:close/>
              </a:path>
              <a:path fill="lighten" w="69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769" h="21600">
                <a:moveTo>
                  <a:pt x="27878" y="3794"/>
                </a:moveTo>
                <a:lnTo>
                  <a:pt x="41891" y="10800"/>
                </a:lnTo>
                <a:lnTo>
                  <a:pt x="27878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7885080" y="6669000"/>
            <a:ext cx="647640" cy="189000"/>
          </a:xfrm>
          <a:custGeom>
            <a:avLst/>
            <a:gdLst>
              <a:gd name="textAreaLeft" fmla="*/ 12240 w 647640"/>
              <a:gd name="textAreaRight" fmla="*/ 635400 w 64764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16" h="21600">
                <a:moveTo>
                  <a:pt x="0" y="0"/>
                </a:moveTo>
                <a:lnTo>
                  <a:pt x="73916" y="0"/>
                </a:lnTo>
                <a:lnTo>
                  <a:pt x="73916" y="21600"/>
                </a:lnTo>
                <a:lnTo>
                  <a:pt x="0" y="21600"/>
                </a:lnTo>
                <a:close/>
              </a:path>
              <a:path fill="lightenLess" w="73916" h="21600">
                <a:moveTo>
                  <a:pt x="0" y="0"/>
                </a:moveTo>
                <a:lnTo>
                  <a:pt x="73916" y="0"/>
                </a:lnTo>
                <a:lnTo>
                  <a:pt x="72516" y="1400"/>
                </a:lnTo>
                <a:lnTo>
                  <a:pt x="1400" y="1400"/>
                </a:lnTo>
                <a:close/>
              </a:path>
              <a:path fill="darken" w="73916" h="21600">
                <a:moveTo>
                  <a:pt x="73916" y="0"/>
                </a:moveTo>
                <a:lnTo>
                  <a:pt x="73916" y="21600"/>
                </a:lnTo>
                <a:lnTo>
                  <a:pt x="72516" y="20200"/>
                </a:lnTo>
                <a:lnTo>
                  <a:pt x="72516" y="1400"/>
                </a:lnTo>
                <a:close/>
              </a:path>
              <a:path fill="darkenLess" w="73916" h="21600">
                <a:moveTo>
                  <a:pt x="73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16" y="20200"/>
                </a:lnTo>
                <a:close/>
              </a:path>
              <a:path fill="lighten" w="73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916" h="21600">
                <a:moveTo>
                  <a:pt x="36958" y="3837"/>
                </a:moveTo>
                <a:lnTo>
                  <a:pt x="39534" y="6448"/>
                </a:ln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lnTo>
                  <a:pt x="43921" y="10800"/>
                </a:lnTo>
                <a:lnTo>
                  <a:pt x="42267" y="10800"/>
                </a:lnTo>
                <a:lnTo>
                  <a:pt x="42267" y="17989"/>
                </a:lnTo>
                <a:lnTo>
                  <a:pt x="31649" y="17989"/>
                </a:lnTo>
                <a:lnTo>
                  <a:pt x="31649" y="10800"/>
                </a:lnTo>
                <a:lnTo>
                  <a:pt x="29995" y="10800"/>
                </a:lnTo>
                <a:close/>
              </a:path>
              <a:path fill="darkenLess" w="73916" h="21600">
                <a:moveTo>
                  <a:pt x="39534" y="6448"/>
                </a:moveTo>
                <a:lnTo>
                  <a:pt x="39534" y="4707"/>
                </a:lnTo>
                <a:lnTo>
                  <a:pt x="41310" y="4707"/>
                </a:lnTo>
                <a:lnTo>
                  <a:pt x="41310" y="8224"/>
                </a:lnTo>
                <a:close/>
              </a:path>
              <a:path fill="darkenLess" w="73916" h="21600">
                <a:moveTo>
                  <a:pt x="36036" y="14299"/>
                </a:moveTo>
                <a:lnTo>
                  <a:pt x="37881" y="14299"/>
                </a:lnTo>
                <a:lnTo>
                  <a:pt x="37881" y="17989"/>
                </a:lnTo>
                <a:lnTo>
                  <a:pt x="42267" y="17989"/>
                </a:lnTo>
                <a:lnTo>
                  <a:pt x="42267" y="10800"/>
                </a:lnTo>
                <a:lnTo>
                  <a:pt x="31649" y="10800"/>
                </a:lnTo>
                <a:lnTo>
                  <a:pt x="31649" y="17989"/>
                </a:lnTo>
                <a:lnTo>
                  <a:pt x="36036" y="17989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236000" y="6669000"/>
            <a:ext cx="649080" cy="189000"/>
          </a:xfrm>
          <a:custGeom>
            <a:avLst/>
            <a:gdLst>
              <a:gd name="textAreaLeft" fmla="*/ 12240 w 649080"/>
              <a:gd name="textAreaRight" fmla="*/ 636840 w 64908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4081" h="21600">
                <a:moveTo>
                  <a:pt x="0" y="0"/>
                </a:moveTo>
                <a:lnTo>
                  <a:pt x="74081" y="0"/>
                </a:lnTo>
                <a:lnTo>
                  <a:pt x="74081" y="21600"/>
                </a:lnTo>
                <a:lnTo>
                  <a:pt x="0" y="21600"/>
                </a:lnTo>
                <a:close/>
              </a:path>
              <a:path fill="lightenLess" w="74081" h="21600">
                <a:moveTo>
                  <a:pt x="0" y="0"/>
                </a:moveTo>
                <a:lnTo>
                  <a:pt x="74081" y="0"/>
                </a:lnTo>
                <a:lnTo>
                  <a:pt x="72681" y="1400"/>
                </a:lnTo>
                <a:lnTo>
                  <a:pt x="1400" y="1400"/>
                </a:lnTo>
                <a:close/>
              </a:path>
              <a:path fill="darken" w="74081" h="21600">
                <a:moveTo>
                  <a:pt x="74081" y="0"/>
                </a:moveTo>
                <a:lnTo>
                  <a:pt x="74081" y="21600"/>
                </a:lnTo>
                <a:lnTo>
                  <a:pt x="72681" y="20200"/>
                </a:lnTo>
                <a:lnTo>
                  <a:pt x="72681" y="1400"/>
                </a:lnTo>
                <a:close/>
              </a:path>
              <a:path fill="darkenLess" w="74081" h="21600">
                <a:moveTo>
                  <a:pt x="740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681" y="20200"/>
                </a:lnTo>
                <a:close/>
              </a:path>
              <a:path fill="lighten" w="740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4081" h="21600">
                <a:moveTo>
                  <a:pt x="30034" y="10800"/>
                </a:moveTo>
                <a:lnTo>
                  <a:pt x="44047" y="3794"/>
                </a:lnTo>
                <a:lnTo>
                  <a:pt x="44047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endshow"/>
          </p:cNvPr>
          <p:cNvSpPr/>
          <p:nvPr/>
        </p:nvSpPr>
        <p:spPr>
          <a:xfrm>
            <a:off x="6588000" y="6669000"/>
            <a:ext cx="648000" cy="189000"/>
          </a:xfrm>
          <a:custGeom>
            <a:avLst/>
            <a:gdLst>
              <a:gd name="textAreaLeft" fmla="*/ 12240 w 648000"/>
              <a:gd name="textAreaRight" fmla="*/ 635760 w 64800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73957" h="21600">
                <a:moveTo>
                  <a:pt x="0" y="0"/>
                </a:moveTo>
                <a:lnTo>
                  <a:pt x="73957" y="0"/>
                </a:lnTo>
                <a:lnTo>
                  <a:pt x="73957" y="21600"/>
                </a:lnTo>
                <a:lnTo>
                  <a:pt x="0" y="21600"/>
                </a:lnTo>
                <a:close/>
              </a:path>
              <a:path fill="lightenLess" w="73957" h="21600">
                <a:moveTo>
                  <a:pt x="0" y="0"/>
                </a:moveTo>
                <a:lnTo>
                  <a:pt x="73957" y="0"/>
                </a:lnTo>
                <a:lnTo>
                  <a:pt x="72557" y="1400"/>
                </a:lnTo>
                <a:lnTo>
                  <a:pt x="1400" y="1400"/>
                </a:lnTo>
                <a:close/>
              </a:path>
              <a:path fill="darken" w="73957" h="21600">
                <a:moveTo>
                  <a:pt x="73957" y="0"/>
                </a:moveTo>
                <a:lnTo>
                  <a:pt x="73957" y="21600"/>
                </a:lnTo>
                <a:lnTo>
                  <a:pt x="72557" y="20200"/>
                </a:lnTo>
                <a:lnTo>
                  <a:pt x="72557" y="1400"/>
                </a:lnTo>
                <a:close/>
              </a:path>
              <a:path fill="darkenLess" w="73957" h="21600">
                <a:moveTo>
                  <a:pt x="739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557" y="20200"/>
                </a:lnTo>
                <a:close/>
              </a:path>
              <a:path fill="lighten" w="739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206064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условный заряд атома в молекуле, вычисленный в предположении, что молекула состоит из ионов и в целом электронейтраль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электроотрицательные элементы в соединении имеют отрицательные степени окисления, а атомы элементов с меньшей электроотрицательностью - положитель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епень окисления - формальное понятие; в ряде случаев степень окисления не совпадает с валент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58920" y="4394160"/>
            <a:ext cx="73454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H</a:t>
            </a:r>
            <a:r>
              <a:rPr b="0" lang="ru-RU" sz="2000" spc="-1" strike="noStrike" baseline="-30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гидраз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тепень окисления азота – -2; валентность азота –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51280" y="5084640"/>
            <a:ext cx="1440000" cy="6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A26-900F-41D1-A4D9-62CC29A1D1F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      Электронно-ионный баланс (метод полуреакций) 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тод нахождения коэффициентов, в котором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ется обмен электронами между ионами в растворе с учетом характера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6560" y="438480"/>
            <a:ext cx="7873200" cy="10692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Составление уравнений окислительно-восстановительных реакци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A4BB-1C24-4F51-8519-01FCCAF4B1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333360"/>
            <a:ext cx="77058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ставление уравнений ОВР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уреакций или ионно-электронным методом</a:t>
            </a:r>
            <a:endParaRPr b="0" lang="en-US" sz="18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135000" y="2060640"/>
            <a:ext cx="8881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осн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а составлении ионно-электронных уравнений для процессов окисления и восстановления с учетом реально существующих частиц и последующим суммированием их в общее уравн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Метод применя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ля выражения сущности окислительно-восстанов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льных реакций , протекающих только в раство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8000"/>
                </a:solidFill>
                <a:latin typeface="Arial"/>
              </a:rPr>
              <a:t>Достоинство мето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В электронно-ионных уравнениях полуреакций записываются ионы, ре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щие в водном растворе, а не условные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Понятие «степень окисления» не использ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использовании этого метода не нужно знать все вещества: о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ределяются при выводе уравнения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Видна роль среды как активного участника всего процес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687708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3D2E-04C6-4D84-8CD5-7A209D2128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549360"/>
            <a:ext cx="9032760" cy="60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писываем ионную схему процесса, которая включает только восстановитель и продукт его окисления и окислитель и продукт его восстановления: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+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-&gt;  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окис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яем ионно-электронное уравнение процесса восстановления(э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реакция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ē -&gt; 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ываем уравнения полуреакций так, чтобы число электронов между окислителем и  восстановителем было сбалансиров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- 2ē -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 + 2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  ē-&gt;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ммируем почленно уравнения полуреакций. Составляем общее ионное уравнение реакци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n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ряем правильность составления уравнения реакции в ионном вид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число атомов элементов должно быть равно в левой и в правой частях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общий заряд частиц в левой и правой частях ионного уравнения должен быть один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писываем уравнение в молекулярной форме. Для этого добавляем к ионам, входящим в ионное уравнение, необходимое число ионов противоположного заряд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n + 4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Zn(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+ 2 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+2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41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948360" y="6669000"/>
            <a:ext cx="576360" cy="189000"/>
          </a:xfrm>
          <a:custGeom>
            <a:avLst/>
            <a:gdLst>
              <a:gd name="textAreaLeft" fmla="*/ 12240 w 576360"/>
              <a:gd name="textAreaRight" fmla="*/ 564120 w 576360"/>
              <a:gd name="textAreaTop" fmla="*/ 12240 h 189000"/>
              <a:gd name="textAreaBottom" fmla="*/ 176760 h 189000"/>
            </a:gdLst>
            <a:ahLst/>
            <a:rect l="textAreaLeft" t="textAreaTop" r="textAreaRight" b="textAreaBottom"/>
            <a:pathLst>
              <a:path w="65786" h="21600">
                <a:moveTo>
                  <a:pt x="0" y="0"/>
                </a:moveTo>
                <a:lnTo>
                  <a:pt x="65786" y="0"/>
                </a:lnTo>
                <a:lnTo>
                  <a:pt x="65786" y="21600"/>
                </a:lnTo>
                <a:lnTo>
                  <a:pt x="0" y="21600"/>
                </a:lnTo>
                <a:close/>
              </a:path>
              <a:path fill="lightenLess" w="65786" h="21600">
                <a:moveTo>
                  <a:pt x="0" y="0"/>
                </a:moveTo>
                <a:lnTo>
                  <a:pt x="65786" y="0"/>
                </a:lnTo>
                <a:lnTo>
                  <a:pt x="64386" y="1400"/>
                </a:lnTo>
                <a:lnTo>
                  <a:pt x="1400" y="1400"/>
                </a:lnTo>
                <a:close/>
              </a:path>
              <a:path fill="darken" w="65786" h="21600">
                <a:moveTo>
                  <a:pt x="65786" y="0"/>
                </a:moveTo>
                <a:lnTo>
                  <a:pt x="65786" y="21600"/>
                </a:lnTo>
                <a:lnTo>
                  <a:pt x="64386" y="20200"/>
                </a:lnTo>
                <a:lnTo>
                  <a:pt x="64386" y="1400"/>
                </a:lnTo>
                <a:close/>
              </a:path>
              <a:path fill="darkenLess" w="65786" h="21600">
                <a:moveTo>
                  <a:pt x="65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86" y="20200"/>
                </a:lnTo>
                <a:close/>
              </a:path>
              <a:path fill="lighten" w="65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86" h="21600">
                <a:moveTo>
                  <a:pt x="25886" y="10800"/>
                </a:moveTo>
                <a:lnTo>
                  <a:pt x="39899" y="3794"/>
                </a:lnTo>
                <a:lnTo>
                  <a:pt x="39899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11280" y="115920"/>
            <a:ext cx="80866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лгоритм составления уравнения ОВР методом полуреакций</a:t>
            </a:r>
            <a:endParaRPr b="1" lang="en-US" sz="2400" spc="1" strike="noStrike">
              <a:ln w="0">
                <a:noFill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1ED-D241-466B-9195-80D174A5DE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ЛИЯНИЕ СРЕДЫ НА ПРОТЕКАНИЕ ОКИСЛИТЕЛЬНО-ВОССТАНОВИТЕЛЬ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140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</a:t>
            </a: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133720"/>
          <a:ext cx="8351640" cy="3419280"/>
        </p:xfrm>
        <a:graphic>
          <a:graphicData uri="http://schemas.openxmlformats.org/drawingml/2006/table">
            <a:tbl>
              <a:tblPr/>
              <a:tblGrid>
                <a:gridCol w="1942920"/>
                <a:gridCol w="3024360"/>
                <a:gridCol w="33843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Ы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ОСТАТОК АТОМОВ КИСЛОР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 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тр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лоч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nOH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n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+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5610-6FB2-4410-BBFE-7AB8258678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кции с участием перманганата калия в качестве окислителя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1840" y="402840"/>
            <a:ext cx="823320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95640" y="2060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кисл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8280360" cy="3466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84360" y="2637000"/>
            <a:ext cx="741672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кислой среде кислород отдают молекулы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 связывается он ионами вод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E80-C3A8-488B-B1A6-7094A79B5D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нейтраль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3120" y="402840"/>
            <a:ext cx="84124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60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197400"/>
            <a:ext cx="8569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Фиолетовый раств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MnO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сле окончания реакции обесцвечивается и наблюдается выпадение бурого оса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1773360"/>
            <a:ext cx="7561080" cy="6490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В нейтральной среде добавление и связы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ff33"/>
                </a:solidFill>
                <a:latin typeface="Arial"/>
              </a:rPr>
              <a:t>атомов кислорода осуществляется только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FD70-DF8A-49C9-AC8C-F271C80A5F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8000" y="13413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акции в щелочной с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389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1989000"/>
            <a:ext cx="7416720" cy="6494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В щелочной среде кислород предоставляют ионы ОН</a:t>
            </a:r>
            <a:r>
              <a:rPr b="1" i="1" lang="en-US" sz="1800" spc="-1" strike="noStrike">
                <a:solidFill>
                  <a:srgbClr val="ccff33"/>
                </a:solidFill>
                <a:latin typeface="Arial"/>
                <a:ea typeface="Arial"/>
              </a:rPr>
              <a:t>¯</a:t>
            </a: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ff33"/>
                </a:solidFill>
                <a:latin typeface="Arial"/>
              </a:rPr>
              <a:t>а связывается он молекулами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260-5FA0-432C-8A3E-0AF7A88A43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545080" cy="4319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66200" y="142560"/>
            <a:ext cx="822168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ВЛИЯНИЕ СРЕДЫ НА ПРОТЕКАНИЕ ОКИСЛИТЕЛЬНО-ВОССТАНОВИТЕЛЬ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BD54-34DF-4F0B-B093-3C59AD8EA1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взаимодействии веществ, содержащих в своем составе элементы в промежуточных степенях окисления о направлении реакции судят по окислительно-восстановительными потенциалами, которые характеризуют работу, затрачиваемую на отрыв электронов при переходе вещества из восстановленной формы в окисленную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ислительно-восстановительный потенциал </a:t>
            </a:r>
            <a:r>
              <a:rPr b="1" lang="el-GR" sz="2400" spc="-1" strike="noStrike">
                <a:solidFill>
                  <a:srgbClr val="663300"/>
                </a:solidFill>
                <a:latin typeface="Arial"/>
                <a:ea typeface="Arial"/>
              </a:rPr>
              <a:t>φ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  <a:ea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личественная характеристика окислительно-восстановительной п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1F0-A0EA-45DA-8036-8B4E776D01A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действ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 таблице потенциалов определяют потенциалы окислителя и восстанов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ходят их алгебраическую сум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то процесс 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0,  то процесс невозмо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0, то химическое равновес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акция будет протекать в том случае, если окислительно-восстановительный потенциал окислителя выше, чем восстановителя, а их разница больше н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 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Примечание. Во всех справочниках </a:t>
            </a:r>
            <a:r>
              <a:rPr b="1" lang="el-GR" sz="1600" spc="-1" strike="noStrike">
                <a:solidFill>
                  <a:srgbClr val="ff6600"/>
                </a:solidFill>
                <a:latin typeface="Arial"/>
                <a:ea typeface="Arial"/>
              </a:rPr>
              <a:t>φ</a:t>
            </a:r>
            <a:r>
              <a:rPr b="1" lang="ru-RU" sz="1600" spc="-1" strike="noStrike" baseline="30000">
                <a:solidFill>
                  <a:srgbClr val="ff6600"/>
                </a:solidFill>
                <a:latin typeface="Arial"/>
                <a:ea typeface="Arial"/>
              </a:rPr>
              <a:t>0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указаны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для окисл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66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Для восстановителей </a:t>
            </a:r>
            <a:r>
              <a:rPr b="0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берут процесс в </a:t>
            </a: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Arial"/>
              </a:rPr>
              <a:t>обратном направлении с противоположным зна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-171360"/>
            <a:ext cx="9144000" cy="1700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Определение направления протекания окислительно-восстановите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3B1-E003-4697-B01D-C93A221157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0120" y="4172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ля вычисления степени окисления элемента следует учитывать следующие по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      Степени окисления атомов в простых веществах равны нулю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      Постоянную степень окисления имеют атом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ых металлов (+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елочноземельных металлов (+2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дорода (+1) (кроме гидрид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H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, где степень окисления водорода -1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ислорода (-2) (кром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ероксидов, содержащих группу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, в которой степень окисления кислорода 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9332-641F-4D2B-A839-888EE47602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Возможен ли процесс: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Cu +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FeCl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3300"/>
                </a:solidFill>
                <a:latin typeface="Arial Narrow"/>
              </a:rPr>
              <a:t>→</a:t>
            </a:r>
            <a:r>
              <a:rPr b="1" lang="ru-RU" sz="3200" spc="-1" strike="noStrike">
                <a:solidFill>
                  <a:srgbClr val="663300"/>
                </a:solidFill>
                <a:latin typeface="Arial Narrow"/>
              </a:rPr>
              <a:t>? +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писывают из справочника все вариа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2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2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34 B  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 –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Cu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 Narrow"/>
              </a:rPr>
              <a:t>+1   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-0,52 B   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1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77 B  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3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+0,33 B  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ет тот процесс, где алгебраическая сумма потенциалов наибольшая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ому условию удовлетворяют варианты 1 и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 +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 С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+ 2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82C-3B04-4D74-955B-22F58FB875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00000" y="1440"/>
            <a:ext cx="7344000" cy="685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E39-42B6-465E-BF5E-5DD422B64B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22100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 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6920" y="33156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413000"/>
            <a:ext cx="809784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    Алгебраическая сумма степеней окисления всех атомов, входящих в состав молекулы, всегда равна нулю, а в сложном ионе эта сумма равна заряду и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      Для элементов положительная степень окисления не может превышать величину, равную номеру группы периодической систе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чет степени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B080-2EFA-4CA0-AE9F-11409E0856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11280" y="402840"/>
            <a:ext cx="7944120" cy="8575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Существует два типа химических реак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     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и, в которых не изменяется степень окисления элемен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при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 CuO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Cl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OH + H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a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D7D6-3AAE-4E86-A6E0-40C895946E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B    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кции, в которых происходит изменение степеней окисления атомов элементов, входящих в состав реагирующих соединен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K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K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4HC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ие реакции называются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ительно - восстановительны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19640" y="180000"/>
            <a:ext cx="7869600" cy="1080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Реакции без и с изменением степени окисле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B07-E54F-41C3-8BD0-611CF423BD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16760" y="177120"/>
            <a:ext cx="7875360" cy="10634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Окисление, восстановление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ислительно-восстановительных реакциях электроны от одних атомов, молекул или ионов переходят к другим. Процесс отдачи электронов -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кисл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 окислении степень окисления повыша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3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2ē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435640" y="3933720"/>
            <a:ext cx="2857320" cy="18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3564-C77D-4E2F-A8AE-4534D9810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 присоединения электронов – </a:t>
            </a:r>
            <a:r>
              <a:rPr b="0" i="1" lang="ru-RU" sz="2400" spc="-1" strike="noStrike">
                <a:solidFill>
                  <a:srgbClr val="663300"/>
                </a:solidFill>
                <a:latin typeface="Arial"/>
              </a:rPr>
              <a:t>восстановление.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осстановлении степень окисления пониж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3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2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омы или ионы, которые в данной реакции присоединяют электроны являются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окисл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которые отдают электроны -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восстановител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1557360"/>
            <a:ext cx="4392360" cy="285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376-C39E-48BF-BDC3-2E6CB9C667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43680" y="175320"/>
            <a:ext cx="7878960" cy="10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ccff33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Окислительно-восстановительные свойства вещества и степени окисления входящих в него атом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1457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единения, содержащие атомы элементов с максимальной степенью окисления, могут быть только окислителями за счет этих атомов, т.к. они уже отдали все свои валентные электроны и способны только принимать электро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ая степень окисления атома элемента равна номеру группы в периодической таблице, к которой относится данный элемен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00"/>
                </a:solidFill>
                <a:latin typeface="Arial"/>
              </a:rPr>
              <a:t>Соединения, содержащие атомы элементов с минимальной степенью окисления, могут служить только восстановителями, поскольку они способны лишь отдавать электроны, потому, что внешний энергетический уровень у таких атомов завершен восемью электрон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Минимальная степень окисления у атомов металлов равна 0, для неметаллов - (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–8) (где 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- номер группы в периодической систем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оединения, содержащие атомы элементов с промежуточной степенью окисления, могут быть и окислителями и восстановителями, в зависимости от партнера, с которым взаимодействуют и от условий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912E-7078-4E4D-9C20-CDFB6A381E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0T12:50:36Z</dcterms:created>
  <dc:creator>Юля</dc:creator>
  <dc:description/>
  <dc:language>en-US</dc:language>
  <cp:lastModifiedBy>User</cp:lastModifiedBy>
  <dcterms:modified xsi:type="dcterms:W3CDTF">2011-11-30T10:37:33Z</dcterms:modified>
  <cp:revision>38</cp:revision>
  <dc:subject/>
  <dc:title>Слайд 1</dc:title>
</cp:coreProperties>
</file>