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25.wmf" ContentType="image/x-wmf"/>
  <Override PartName="/ppt/media/image24.png" ContentType="image/png"/>
  <Override PartName="/ppt/media/image23.wmf" ContentType="image/x-wmf"/>
  <Override PartName="/ppt/media/image22.png" ContentType="image/png"/>
  <Override PartName="/ppt/media/image20.wmf" ContentType="image/x-wmf"/>
  <Override PartName="/ppt/media/image17.png" ContentType="image/png"/>
  <Override PartName="/ppt/media/image21.png" ContentType="image/png"/>
  <Override PartName="/ppt/media/image19.png" ContentType="image/png"/>
  <Override PartName="/ppt/media/image18.png" ContentType="image/png"/>
  <Override PartName="/ppt/media/image16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9.png" ContentType="image/png"/>
  <Override PartName="/ppt/media/image28.png" ContentType="image/png"/>
  <Override PartName="/ppt/media/image13.wmf" ContentType="image/x-wmf"/>
  <Override PartName="/ppt/media/image5.png" ContentType="image/png"/>
  <Override PartName="/ppt/media/image35.png" ContentType="image/png"/>
  <Override PartName="/ppt/media/image41.png" ContentType="image/png"/>
  <Override PartName="/ppt/media/image39.wmf" ContentType="image/x-wmf"/>
  <Override PartName="/ppt/media/image9.wmf" ContentType="image/x-wmf"/>
  <Override PartName="/ppt/media/image14.png" ContentType="image/png"/>
  <Override PartName="/ppt/media/image38.wmf" ContentType="image/x-wmf"/>
  <Override PartName="/ppt/media/image40.png" ContentType="image/png"/>
  <Override PartName="/ppt/media/image42.png" ContentType="image/png"/>
  <Override PartName="/ppt/media/image31.png" ContentType="image/png"/>
  <Override PartName="/ppt/media/image43.png" ContentType="image/png"/>
  <Override PartName="/ppt/media/image44.png" ContentType="image/png"/>
  <Override PartName="/ppt/media/image12.wmf" ContentType="image/x-wmf"/>
  <Override PartName="/ppt/media/image4.png" ContentType="image/png"/>
  <Override PartName="/ppt/media/image34.png" ContentType="image/png"/>
  <Override PartName="/ppt/media/image27.png" ContentType="image/png"/>
  <Override PartName="/ppt/media/image30.wmf" ContentType="image/x-wmf"/>
  <Override PartName="/ppt/media/image8.png" ContentType="image/png"/>
  <Override PartName="/ppt/media/image37.png" ContentType="image/png"/>
  <Override PartName="/ppt/media/image7.png" ContentType="image/png"/>
  <Override PartName="/ppt/media/image1.jpeg" ContentType="image/jpeg"/>
  <Override PartName="/ppt/media/image15.wmf" ContentType="image/x-wmf"/>
  <Override PartName="/ppt/media/image11.png" ContentType="image/png"/>
  <Override PartName="/ppt/media/image10.wmf" ContentType="image/x-wmf"/>
  <Override PartName="/ppt/media/image32.png" ContentType="image/png"/>
  <Override PartName="/ppt/media/image2.png" ContentType="image/png"/>
  <Override PartName="/ppt/media/image6.png" ContentType="image/png"/>
  <Override PartName="/ppt/media/image36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E8D92-6064-473C-B6C1-B0A32727DD2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BE5F9-1F9B-4098-917B-C028174CB2B3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E02DB-A0EB-4CCB-BE0F-C1395D50E750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5BFA9-CF45-4578-92A8-BF93D1B71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206D1-4E3A-4A11-9FED-3E20F21F2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6BF8E-CEAC-442A-B3FA-512CA4EBC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97EC6-156D-4111-9EE2-06ABC81CD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AA48B-0171-4F72-BE03-AFFA357C5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2225C-03BD-4F97-8F94-B41432C3B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E062A-0270-481F-865E-57EC926D9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1F615-8740-40BA-84E9-D04B5C356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509D3-5320-44C4-917D-75B0CDF86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E3CBC-1CDD-4056-8501-660D15975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D6EB4-78D8-43B5-9F90-56BBC2E9E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DA1A1-3B7D-4143-B742-ADC446AFA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FE9C5-24AB-472A-AA7A-BE2B7204D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E3FA9-5329-4EAA-BCC0-51833F354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032B6-98FE-44C8-93E7-987862206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EC7D3-FB8C-42FE-AF36-E75F3F032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10F90-B106-4826-A64C-B1407A800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FEEFDA-C911-4D06-9190-CE72784B9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349068-1B73-480F-84D9-00033A364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D4CFC0-F5FF-48FB-A5B0-2A00989E1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DF544B-F6DA-4744-B41F-0B6A03773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939D1F-666F-4C42-9416-F5409A03A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55378-1494-4331-9DB5-2F2DC062B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8BA9CA-F57D-4AAB-A84F-58C192538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3FA408-D638-458E-A854-37E5048C9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FD3133-C4C9-4C5B-864A-FDA27E5C1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FA4DDB-E3F3-4683-9925-F28000D76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1E040F-E546-4940-8A21-2AB26A835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578E6B-EA40-4B82-857B-697B95BB5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9B02F3-92A9-4E6E-AF32-79F5CC4DB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30FDE6-0AC5-4A9E-9778-18638457B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56DB9F-1910-4D54-97CC-E3DE7DCF1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8C76C5-9CF3-4C20-892F-33BD81C8A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B3CDC-B96A-4A81-A20E-BE9D0A2F6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A625A3-A777-4C71-AE59-6EE41938D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3BF788-5749-4B5C-B11C-E3F9A1919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D55B90-4189-4C65-ABFB-8948E83A3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C4AB20-C88A-4211-81AE-F90E08153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A73E0C-4893-4A98-92C5-287ED419A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6D8648-FE57-4239-B8A5-EDEC2A1D6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955FD7-CF38-464E-9C0B-979FB5CCD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4BBE4D-6C2C-4E7E-83A5-F93E52D9A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8CADBA-D167-49F8-8E65-873058CC8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C6DC3D-E11D-4FCD-B66A-A9BEE4643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ED86F-FAB1-4393-B9FB-C911BC624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4C1259-EF5D-457E-8AAA-6C610DB1E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6C6615-667E-45EA-B7BA-91EEEAF06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48912D-221D-4FEE-8514-AFBEEFFC8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D9D93C-ABC7-4F3F-AA23-93A087878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28A1A3-B0F9-4B09-A587-6561A4FE5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191757-5678-4CA2-A252-922141366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D965D2-D2BE-4B7B-87FC-F9237897D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4CF08F-C5C8-497D-90CA-D219DBD11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839035-1321-47C7-9D25-4C64B352D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A1A7ED-D33D-43BE-A6A4-59B3FBCF5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2BBE3-6ED4-4645-BF8F-E5FC2333C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D3FC42-8F46-4F2D-AF37-C903C4D44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6A255-DFF9-4534-8F5A-19466489B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1ED59-6A03-4D47-B7F9-7B068A1F4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04E24-9BC2-4152-9046-EE7D4DF5C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ый треугольник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6ecff">
                  <a:alpha val="1176"/>
                </a:srgbClr>
              </a:gs>
              <a:gs pos="100000">
                <a:srgbClr val="d6ecff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Равнобедренный треугольник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459205"/>
              </a:gs>
              <a:gs pos="100000">
                <a:srgbClr val="a7ff79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Прямая соединительная линия 12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bfc3cc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Прямая соединительная линия 14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6bcc5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9f166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7fd13b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bde9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97D96-25E2-4900-9713-D3916260FB30}" type="slidenum">
              <a:rPr b="0" lang="en-US" sz="1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63c5e"/>
            </a:gs>
            <a:gs pos="100000">
              <a:srgbClr val="657fa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9f166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7fd13b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bde9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0BCD3-C213-4F37-8536-25EE615A2DDC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63c5e"/>
            </a:gs>
            <a:gs pos="100000">
              <a:srgbClr val="657fa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9f166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7fd13b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bde9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EDD9E-FB5D-4E3A-B7DF-6C65472763DC}" type="slidenum">
              <a:rPr b="0" lang="en-US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9f166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99f166"/>
              </a:solidFill>
              <a:latin typeface="Century Gothic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7fd13b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7fd13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bde9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0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11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12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9535F-CE48-4C7D-8048-99BFC8FBCFBA}" type="slidenum">
              <a:rPr b="0" lang="en-US" sz="9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528E3-8D11-4746-9A04-0C76E619F2E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0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3.wmf"/><Relationship Id="rId6" Type="http://schemas.openxmlformats.org/officeDocument/2006/relationships/image" Target="../media/image1.jpeg"/><Relationship Id="rId7" Type="http://schemas.openxmlformats.org/officeDocument/2006/relationships/slideLayout" Target="../slideLayouts/slideLayout49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wmf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wmf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4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wmf"/><Relationship Id="rId3" Type="http://schemas.openxmlformats.org/officeDocument/2006/relationships/image" Target="../media/image39.wmf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4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49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0.wmf"/><Relationship Id="rId6" Type="http://schemas.openxmlformats.org/officeDocument/2006/relationships/image" Target="../media/image1.jpeg"/><Relationship Id="rId7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Лекция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4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4000" spc="-1" strike="noStrike">
                <a:solidFill>
                  <a:srgbClr val="33cc33"/>
                </a:solidFill>
                <a:latin typeface="Arial"/>
              </a:rPr>
              <a:t>Основы химической кинетики и химическое равновес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2195640" y="549360"/>
            <a:ext cx="64306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cc33"/>
                </a:solidFill>
                <a:latin typeface="Arial"/>
                <a:ea typeface="Arial"/>
              </a:rPr>
              <a:t>Донской государственный технический университет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cc33"/>
                </a:solidFill>
                <a:latin typeface="Arial"/>
                <a:ea typeface="Arial"/>
              </a:rPr>
              <a:t>Факультет нанотехнологии и композиционные материалы</a:t>
            </a:r>
            <a:r>
              <a:rPr b="0" i="1" lang="en-US" sz="1800" spc="-1" strike="noStrike">
                <a:solidFill>
                  <a:srgbClr val="33cc33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cc33"/>
                </a:solidFill>
                <a:latin typeface="Arial"/>
                <a:ea typeface="Arial"/>
              </a:rPr>
              <a:t>Кафедра «Химия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08760" y="4221000"/>
            <a:ext cx="4124880" cy="12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  <a:ea typeface="Arial"/>
              </a:rPr>
              <a:t>Рекомендуемая литература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Н.Л. Глинка, Общая химия, М.: Химия, 200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Н.В.Коровин Общая химия, М.: Высшая школа, 199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М.И.Гельфман, В.П.Юстратов Химия, СПб.: Лань, 200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chemistry.r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chem.msu.su/ru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367680" y="4365720"/>
            <a:ext cx="2161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Е. Г. Задошенко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2011 -2012 учебный год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Заголовок 1" descr=""/>
          <p:cNvPicPr/>
          <p:nvPr/>
        </p:nvPicPr>
        <p:blipFill>
          <a:blip r:embed="rId1"/>
          <a:stretch/>
        </p:blipFill>
        <p:spPr>
          <a:xfrm>
            <a:off x="684360" y="476280"/>
            <a:ext cx="8242200" cy="88416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 txBox="1"/>
          <p:nvPr/>
        </p:nvSpPr>
        <p:spPr>
          <a:xfrm>
            <a:off x="395280" y="1413000"/>
            <a:ext cx="8229600" cy="51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братимые реакции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это реакции, которые при одних и тех же условиях протекают в прямом и обратном направлении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еобратимыми реакциям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называются реакции, которые протекают только в одном направлении, т.е. продукты этих реакций не взаимодействуют друг с другом с образованием исходных вещест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3" name="Object 3"/>
          <p:cNvGraphicFramePr/>
          <p:nvPr/>
        </p:nvGraphicFramePr>
        <p:xfrm>
          <a:off x="2700360" y="2276640"/>
          <a:ext cx="4343400" cy="1158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4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700360" y="2276640"/>
                    <a:ext cx="4343400" cy="1158840"/>
                  </a:xfrm>
                  <a:prstGeom prst="rect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55" name="Object 4"/>
          <p:cNvGraphicFramePr/>
          <p:nvPr/>
        </p:nvGraphicFramePr>
        <p:xfrm>
          <a:off x="1476360" y="5516640"/>
          <a:ext cx="6424560" cy="8316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56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476360" y="5516640"/>
                    <a:ext cx="6424560" cy="83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57" name="" descr=""/>
          <p:cNvPicPr/>
          <p:nvPr/>
        </p:nvPicPr>
        <p:blipFill>
          <a:blip r:embed="rId6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Заголовок 1" descr=""/>
          <p:cNvPicPr/>
          <p:nvPr/>
        </p:nvPicPr>
        <p:blipFill>
          <a:blip r:embed="rId1"/>
          <a:stretch/>
        </p:blipFill>
        <p:spPr>
          <a:xfrm>
            <a:off x="684360" y="260280"/>
            <a:ext cx="8280360" cy="744480"/>
          </a:xfrm>
          <a:prstGeom prst="rect">
            <a:avLst/>
          </a:prstGeom>
          <a:ln w="0">
            <a:noFill/>
          </a:ln>
        </p:spPr>
      </p:pic>
      <p:sp>
        <p:nvSpPr>
          <p:cNvPr id="259" name="Rectangle 2"/>
          <p:cNvSpPr/>
          <p:nvPr/>
        </p:nvSpPr>
        <p:spPr>
          <a:xfrm>
            <a:off x="250920" y="1265760"/>
            <a:ext cx="6049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д скоростью гомогенной химической реакции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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) понимают изменение количества вещества (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) за единицу времени (</a:t>
            </a: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) в единице объема системы (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0" name="Object 1"/>
              <p:cNvSpPr txBox="1"/>
              <p:nvPr/>
            </p:nvSpPr>
            <p:spPr>
              <a:xfrm>
                <a:off x="6338880" y="1125360"/>
                <a:ext cx="2567160" cy="121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гомоген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Δn</m:t>
                        </m:r>
                      </m:num>
                      <m:den>
                        <m:r>
                          <m:t xml:space="preserve">τ</m:t>
                        </m:r>
                        <m:r>
                          <m:t xml:space="preserve">⋅</m:t>
                        </m:r>
                        <m:r>
                          <m:t xml:space="preserve">V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61" name="Rectangle 4"/>
          <p:cNvSpPr/>
          <p:nvPr/>
        </p:nvSpPr>
        <p:spPr>
          <a:xfrm>
            <a:off x="250920" y="4578840"/>
            <a:ext cx="5689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Под скоростью гетерогенной химической реакции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 (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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) понимают изменение количества вещества (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) за единицу времени (</a:t>
            </a: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) на единице поверхности раздела фаз (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2" name="Object 3"/>
              <p:cNvSpPr txBox="1"/>
              <p:nvPr/>
            </p:nvSpPr>
            <p:spPr>
              <a:xfrm>
                <a:off x="6372360" y="4869000"/>
                <a:ext cx="2570040" cy="117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гетероген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Δn</m:t>
                        </m:r>
                      </m:num>
                      <m:den>
                        <m:r>
                          <m:t xml:space="preserve">τ</m:t>
                        </m:r>
                        <m:r>
                          <m:t xml:space="preserve">⋅</m:t>
                        </m:r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63" name="Прямоугольник 6"/>
          <p:cNvSpPr/>
          <p:nvPr/>
        </p:nvSpPr>
        <p:spPr>
          <a:xfrm>
            <a:off x="179280" y="3213000"/>
            <a:ext cx="6392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Скоростью химической реакции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называют изменение концентрации реагирующих веществ в единицу времени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4" name="Object 5"/>
              <p:cNvSpPr txBox="1"/>
              <p:nvPr/>
            </p:nvSpPr>
            <p:spPr>
              <a:xfrm>
                <a:off x="6877080" y="2852640"/>
                <a:ext cx="1485720" cy="121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Δс</m:t>
                        </m:r>
                      </m:num>
                      <m:den>
                        <m:r>
                          <m:t xml:space="preserve">Δτ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26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Прямоугольник 24"/>
          <p:cNvSpPr/>
          <p:nvPr/>
        </p:nvSpPr>
        <p:spPr>
          <a:xfrm>
            <a:off x="5076720" y="333360"/>
            <a:ext cx="3888000" cy="17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редняя скорость реакции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– конечное изменение концентрации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, относящееся к промежутку времени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Прямоугольник 25"/>
          <p:cNvSpPr/>
          <p:nvPr/>
        </p:nvSpPr>
        <p:spPr>
          <a:xfrm>
            <a:off x="4930920" y="2852640"/>
            <a:ext cx="42130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Истинная (мгновенная) скорость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реакции определяется тангенсом угла наклона касательной в точке, соответствующей данному моменту времен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8" name="Object 20"/>
              <p:cNvSpPr txBox="1"/>
              <p:nvPr/>
            </p:nvSpPr>
            <p:spPr>
              <a:xfrm>
                <a:off x="7093080" y="1628640"/>
                <a:ext cx="1719000" cy="121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±</m:t>
                    </m:r>
                    <m:f>
                      <m:num>
                        <m:r>
                          <m:t xml:space="preserve">Δс</m:t>
                        </m:r>
                      </m:num>
                      <m:den>
                        <m:r>
                          <m:t xml:space="preserve">Δ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9" name="Object 21"/>
              <p:cNvSpPr txBox="1"/>
              <p:nvPr/>
            </p:nvSpPr>
            <p:spPr>
              <a:xfrm>
                <a:off x="7164360" y="4076640"/>
                <a:ext cx="1682640" cy="121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±</m:t>
                    </m:r>
                    <m:f>
                      <m:num>
                        <m:r>
                          <m:t xml:space="preserve">dс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70" name="Прямоугольник 28"/>
          <p:cNvSpPr/>
          <p:nvPr/>
        </p:nvSpPr>
        <p:spPr>
          <a:xfrm>
            <a:off x="324000" y="4869000"/>
            <a:ext cx="388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Изменение концентрации исходного вещества (1) и продукта реакции (2) во времен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1" name="Picture 8" descr=""/>
          <p:cNvPicPr/>
          <p:nvPr/>
        </p:nvPicPr>
        <p:blipFill>
          <a:blip r:embed="rId1"/>
          <a:stretch/>
        </p:blipFill>
        <p:spPr>
          <a:xfrm>
            <a:off x="108000" y="1413000"/>
            <a:ext cx="4897440" cy="359388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Заголовок 1" descr=""/>
          <p:cNvPicPr/>
          <p:nvPr/>
        </p:nvPicPr>
        <p:blipFill>
          <a:blip r:embed="rId1"/>
          <a:stretch/>
        </p:blipFill>
        <p:spPr>
          <a:xfrm>
            <a:off x="611280" y="0"/>
            <a:ext cx="8820000" cy="134136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 txBox="1"/>
          <p:nvPr/>
        </p:nvSpPr>
        <p:spPr>
          <a:xfrm>
            <a:off x="1835280" y="1483920"/>
            <a:ext cx="668160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рода реагирующих вещест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нцентрация реагирующих вещест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изическое состояние вещест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мперату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тализат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ерический факт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Заголовок 3" descr=""/>
          <p:cNvPicPr/>
          <p:nvPr/>
        </p:nvPicPr>
        <p:blipFill>
          <a:blip r:embed="rId1"/>
          <a:stretch/>
        </p:blipFill>
        <p:spPr>
          <a:xfrm>
            <a:off x="1763640" y="189000"/>
            <a:ext cx="6481800" cy="82080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2" descr=""/>
          <p:cNvPicPr/>
          <p:nvPr/>
        </p:nvPicPr>
        <p:blipFill>
          <a:blip r:embed="rId2"/>
          <a:stretch/>
        </p:blipFill>
        <p:spPr>
          <a:xfrm>
            <a:off x="108000" y="3716280"/>
            <a:ext cx="1843200" cy="2043000"/>
          </a:xfrm>
          <a:prstGeom prst="rect">
            <a:avLst/>
          </a:prstGeom>
          <a:ln w="0">
            <a:noFill/>
          </a:ln>
        </p:spPr>
      </p:pic>
      <p:sp>
        <p:nvSpPr>
          <p:cNvPr id="278" name="Прямоугольник 5"/>
          <p:cNvSpPr/>
          <p:nvPr/>
        </p:nvSpPr>
        <p:spPr>
          <a:xfrm>
            <a:off x="179280" y="1484280"/>
            <a:ext cx="871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ткрыт в 1867 г.  норвежскими ученными математиком Като Максимилианом  Гульдбергом и химиком Петером Вааг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Прямоугольник 6"/>
          <p:cNvSpPr/>
          <p:nvPr/>
        </p:nvSpPr>
        <p:spPr>
          <a:xfrm>
            <a:off x="179280" y="2060640"/>
            <a:ext cx="8715600" cy="1263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Скорость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химической реакции прямо пропорциональна произведению концентраций реагирующих веществ в степенях их стехиометрических коэффициент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Прямоугольник 9"/>
          <p:cNvSpPr/>
          <p:nvPr/>
        </p:nvSpPr>
        <p:spPr>
          <a:xfrm>
            <a:off x="1928880" y="4000680"/>
            <a:ext cx="7000920" cy="287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ероятность нахождения молекул А и В в точке R зависит от их концентраци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ω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Arial"/>
              </a:rPr>
              <a:t>A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=α[A]          ω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Arial"/>
              </a:rPr>
              <a:t>B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= β[B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ероятность сложного события (т.е. их столкновения) равна произведению вероятностей простых событи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ω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Arial"/>
              </a:rPr>
              <a:t>AВ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= ω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Arial"/>
              </a:rPr>
              <a:t>A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·ω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Arial"/>
              </a:rPr>
              <a:t>В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= α[A]·β[B]        α·β = k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ru-RU" sz="2000" spc="-1" strike="noStrike" baseline="-25000">
                <a:solidFill>
                  <a:srgbClr val="ffffff"/>
                </a:solidFill>
                <a:latin typeface="Arial"/>
              </a:rPr>
              <a:t>AB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= k [A]</a:t>
            </a:r>
            <a:r>
              <a:rPr b="0" lang="ru-RU" sz="2000" spc="-1" strike="noStrike">
                <a:solidFill>
                  <a:srgbClr val="ffffff"/>
                </a:solidFill>
                <a:latin typeface="Symbol"/>
                <a:ea typeface="Symbol"/>
              </a:rPr>
              <a:t>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[B]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Прямоугольник 13"/>
          <p:cNvSpPr/>
          <p:nvPr/>
        </p:nvSpPr>
        <p:spPr>
          <a:xfrm>
            <a:off x="1835280" y="3429000"/>
            <a:ext cx="678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Математическое обоснование закона действующих масс для реакции А + В = 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Заголовок 1" descr=""/>
          <p:cNvPicPr/>
          <p:nvPr/>
        </p:nvPicPr>
        <p:blipFill>
          <a:blip r:embed="rId1"/>
          <a:stretch/>
        </p:blipFill>
        <p:spPr>
          <a:xfrm>
            <a:off x="1116000" y="189000"/>
            <a:ext cx="6772320" cy="955440"/>
          </a:xfrm>
          <a:prstGeom prst="rect">
            <a:avLst/>
          </a:prstGeom>
          <a:ln w="0">
            <a:noFill/>
          </a:ln>
        </p:spPr>
      </p:pic>
      <p:sp>
        <p:nvSpPr>
          <p:cNvPr id="284" name="Прямоугольник 6"/>
          <p:cNvSpPr/>
          <p:nvPr/>
        </p:nvSpPr>
        <p:spPr>
          <a:xfrm>
            <a:off x="324000" y="1484280"/>
            <a:ext cx="8572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Кинетическое уравнение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– это математическое выражение, связывающие скорость реакции с концентрацией реагирующих вещест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5" name="Object 4"/>
              <p:cNvSpPr txBox="1"/>
              <p:nvPr/>
            </p:nvSpPr>
            <p:spPr>
              <a:xfrm>
                <a:off x="900000" y="3573360"/>
                <a:ext cx="2872080" cy="60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пр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e>
                      <m:sup>
                        <m:r>
                          <m:t xml:space="preserve">a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e>
                      <m:sup>
                        <m:r>
                          <m:t xml:space="preserve">b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" name="Object 7"/>
              <p:cNvSpPr txBox="1"/>
              <p:nvPr/>
            </p:nvSpPr>
            <p:spPr>
              <a:xfrm>
                <a:off x="4356000" y="3500280"/>
                <a:ext cx="2955960" cy="60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обр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⋅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</m:e>
                      <m:sup>
                        <m:r>
                          <m:t xml:space="preserve">c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D</m:t>
                            </m:r>
                          </m:e>
                        </m:d>
                      </m:e>
                      <m:sup>
                        <m:r>
                          <m:t xml:space="preserve">d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87" name="Прямоугольник 12"/>
          <p:cNvSpPr/>
          <p:nvPr/>
        </p:nvSpPr>
        <p:spPr>
          <a:xfrm>
            <a:off x="324000" y="4292640"/>
            <a:ext cx="7858080" cy="107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ля гомогенной реакции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г) +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г) =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N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г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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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[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]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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[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]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Rectangle 13"/>
          <p:cNvSpPr/>
          <p:nvPr/>
        </p:nvSpPr>
        <p:spPr>
          <a:xfrm>
            <a:off x="684360" y="5177520"/>
            <a:ext cx="7643520" cy="13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ля гетерогенной реакции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(к) + O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г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О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г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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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[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]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89" name="Object 12"/>
          <p:cNvGraphicFramePr/>
          <p:nvPr/>
        </p:nvGraphicFramePr>
        <p:xfrm>
          <a:off x="2627280" y="2708280"/>
          <a:ext cx="3473640" cy="882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90" name="Object 1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627280" y="2708280"/>
                    <a:ext cx="347364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91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Заголовок 1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8242200" cy="884160"/>
          </a:xfrm>
          <a:prstGeom prst="rect">
            <a:avLst/>
          </a:prstGeom>
          <a:ln w="0">
            <a:noFill/>
          </a:ln>
        </p:spPr>
      </p:pic>
      <p:sp>
        <p:nvSpPr>
          <p:cNvPr id="293" name="Прямоугольник 2"/>
          <p:cNvSpPr/>
          <p:nvPr/>
        </p:nvSpPr>
        <p:spPr>
          <a:xfrm>
            <a:off x="214200" y="1428840"/>
            <a:ext cx="8715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k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–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оэффициент пропорциональности, называемый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онстантой скорости реакц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Прямоугольник 3"/>
          <p:cNvSpPr/>
          <p:nvPr/>
        </p:nvSpPr>
        <p:spPr>
          <a:xfrm>
            <a:off x="179280" y="2349360"/>
            <a:ext cx="87156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физический смысл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Константа скорости реакции численно равна скорости реакции, при концентрации реагирующих веществ равной единиц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коэффициент пропорциональности, называемый константой скорости реакц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Прямоугольник 4"/>
          <p:cNvSpPr/>
          <p:nvPr/>
        </p:nvSpPr>
        <p:spPr>
          <a:xfrm>
            <a:off x="250920" y="4724280"/>
            <a:ext cx="8501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Константа скорости реакции зависит от природы реагирующих веществ, температуры и присутствия катализаторов, но не зависит от концентрации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ещест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Заголовок 1" descr=""/>
          <p:cNvPicPr/>
          <p:nvPr/>
        </p:nvPicPr>
        <p:blipFill>
          <a:blip r:embed="rId1"/>
          <a:stretch/>
        </p:blipFill>
        <p:spPr>
          <a:xfrm>
            <a:off x="2124000" y="115920"/>
            <a:ext cx="6240600" cy="87768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7" descr=""/>
          <p:cNvPicPr/>
          <p:nvPr/>
        </p:nvPicPr>
        <p:blipFill>
          <a:blip r:embed="rId2"/>
          <a:srcRect l="0" t="0" r="0" b="4710"/>
          <a:stretch/>
        </p:blipFill>
        <p:spPr>
          <a:xfrm>
            <a:off x="324000" y="1413000"/>
            <a:ext cx="2716200" cy="3714480"/>
          </a:xfrm>
          <a:prstGeom prst="rect">
            <a:avLst/>
          </a:prstGeom>
          <a:ln w="0">
            <a:noFill/>
          </a:ln>
        </p:spPr>
      </p:pic>
      <p:sp>
        <p:nvSpPr>
          <p:cNvPr id="299" name="Прямоугольник 9"/>
          <p:cNvSpPr/>
          <p:nvPr/>
        </p:nvSpPr>
        <p:spPr>
          <a:xfrm>
            <a:off x="405720" y="5373720"/>
            <a:ext cx="224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Якоб Хендрик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ант-Гофф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Прямоугольник 10"/>
          <p:cNvSpPr/>
          <p:nvPr/>
        </p:nvSpPr>
        <p:spPr>
          <a:xfrm>
            <a:off x="3214800" y="1143000"/>
            <a:ext cx="5643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ри повышении температуры на 10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скорость химической реакции увеличивается в 2-4 раз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2" name="Object 8"/>
              <p:cNvSpPr txBox="1"/>
              <p:nvPr/>
            </p:nvSpPr>
            <p:spPr>
              <a:xfrm>
                <a:off x="3500280" y="2714760"/>
                <a:ext cx="4880160" cy="12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sSup>
                      <m:e>
                        <m:r>
                          <m:t xml:space="preserve">γ</m:t>
                        </m:r>
                      </m:e>
                      <m:sup>
                        <m:f>
                          <m:num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  <m:sup>
                                <m:r>
                                  <m:t xml:space="preserve">0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0</m:t>
                                </m:r>
                              </m:sup>
                            </m:sSub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</m:sup>
                    </m:sSup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γ</m:t>
                        </m:r>
                      </m:e>
                      <m:sup>
                        <m:f>
                          <m:num>
                            <m:r>
                              <m:t xml:space="preserve">Δt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03" name="Прямоугольник 13"/>
          <p:cNvSpPr/>
          <p:nvPr/>
        </p:nvSpPr>
        <p:spPr>
          <a:xfrm>
            <a:off x="3214800" y="4071960"/>
            <a:ext cx="5572080" cy="249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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 скорость реакции при температуре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ru-RU" sz="24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</a:t>
            </a:r>
            <a:r>
              <a:rPr b="0" i="1" lang="ru-RU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- скорость реакции при температуре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ru-RU" sz="24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Symbol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 температурный коэффициент, принимает значения от 2 до 4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Заголовок 1" descr=""/>
          <p:cNvPicPr/>
          <p:nvPr/>
        </p:nvPicPr>
        <p:blipFill>
          <a:blip r:embed="rId1"/>
          <a:stretch/>
        </p:blipFill>
        <p:spPr>
          <a:xfrm>
            <a:off x="1619280" y="115920"/>
            <a:ext cx="8251920" cy="677880"/>
          </a:xfrm>
          <a:prstGeom prst="rect">
            <a:avLst/>
          </a:prstGeom>
          <a:ln w="0">
            <a:noFill/>
          </a:ln>
        </p:spPr>
      </p:pic>
      <p:sp>
        <p:nvSpPr>
          <p:cNvPr id="306" name="Прямоугольник 2"/>
          <p:cNvSpPr/>
          <p:nvPr/>
        </p:nvSpPr>
        <p:spPr>
          <a:xfrm>
            <a:off x="2771640" y="907920"/>
            <a:ext cx="6086520" cy="233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Теория активных столкновений позволяет вывести математическое соотношение между скоростью реакции, частотой столкновений и вероятность того, что энергия молекул превосходит величину Е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7" name="Picture 2" descr=""/>
          <p:cNvPicPr/>
          <p:nvPr/>
        </p:nvPicPr>
        <p:blipFill>
          <a:blip r:embed="rId2"/>
          <a:srcRect l="2833" t="0" r="0" b="0"/>
          <a:stretch/>
        </p:blipFill>
        <p:spPr>
          <a:xfrm>
            <a:off x="179280" y="1700280"/>
            <a:ext cx="2440080" cy="3321000"/>
          </a:xfrm>
          <a:prstGeom prst="rect">
            <a:avLst/>
          </a:prstGeom>
          <a:ln w="0">
            <a:noFill/>
          </a:ln>
        </p:spPr>
      </p:pic>
      <p:sp>
        <p:nvSpPr>
          <p:cNvPr id="308" name="Прямоугольник 5"/>
          <p:cNvSpPr/>
          <p:nvPr/>
        </p:nvSpPr>
        <p:spPr>
          <a:xfrm>
            <a:off x="232200" y="5373720"/>
            <a:ext cx="229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ванте Август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ррениус</a:t>
            </a: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Прямоугольник 7"/>
          <p:cNvSpPr/>
          <p:nvPr/>
        </p:nvSpPr>
        <p:spPr>
          <a:xfrm>
            <a:off x="3564000" y="3284640"/>
            <a:ext cx="465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УРАВНЕНИЕ</a:t>
            </a:r>
            <a:r>
              <a:rPr b="1" lang="en-US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АРРЕНИУС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0" name="Object 2"/>
              <p:cNvSpPr txBox="1"/>
              <p:nvPr/>
            </p:nvSpPr>
            <p:spPr>
              <a:xfrm>
                <a:off x="4572000" y="3716280"/>
                <a:ext cx="258768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z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f>
                          <m:num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11" name="Прямоугольник 9"/>
          <p:cNvSpPr/>
          <p:nvPr/>
        </p:nvSpPr>
        <p:spPr>
          <a:xfrm>
            <a:off x="3276720" y="4653000"/>
            <a:ext cx="5715000" cy="233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k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– постоянная скорости реакци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z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– число столкновений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R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– универсальная газовая постоянна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– абсолютная температур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</a:t>
            </a:r>
            <a:r>
              <a:rPr b="0" i="1" lang="ru-RU" sz="24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– энергия активац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Заголовок 1" descr=""/>
          <p:cNvPicPr/>
          <p:nvPr/>
        </p:nvPicPr>
        <p:blipFill>
          <a:blip r:embed="rId1"/>
          <a:stretch/>
        </p:blipFill>
        <p:spPr>
          <a:xfrm>
            <a:off x="755640" y="0"/>
            <a:ext cx="7697880" cy="79524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2" descr=""/>
          <p:cNvPicPr/>
          <p:nvPr/>
        </p:nvPicPr>
        <p:blipFill>
          <a:blip r:embed="rId2"/>
          <a:stretch/>
        </p:blipFill>
        <p:spPr>
          <a:xfrm>
            <a:off x="179280" y="1484280"/>
            <a:ext cx="4929120" cy="3429000"/>
          </a:xfrm>
          <a:prstGeom prst="rect">
            <a:avLst/>
          </a:prstGeom>
          <a:ln w="0">
            <a:noFill/>
          </a:ln>
        </p:spPr>
      </p:pic>
      <p:sp>
        <p:nvSpPr>
          <p:cNvPr id="315" name="Прямоугольник 4"/>
          <p:cNvSpPr/>
          <p:nvPr/>
        </p:nvSpPr>
        <p:spPr>
          <a:xfrm>
            <a:off x="0" y="4857840"/>
            <a:ext cx="4857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Распределение молекул по кинетической энерг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Прямоугольник 5"/>
          <p:cNvSpPr/>
          <p:nvPr/>
        </p:nvSpPr>
        <p:spPr>
          <a:xfrm>
            <a:off x="5219640" y="907920"/>
            <a:ext cx="36432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Энергия активации –минимальная энергия, которая необходима для химического взаимодейств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Энергию активации можно рассматривать как некоторый энергетический барьер, который должны преодолеть сталкивающиеся молекул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Заголовок 3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8242200" cy="81144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 txBox="1"/>
          <p:nvPr/>
        </p:nvSpPr>
        <p:spPr>
          <a:xfrm>
            <a:off x="539640" y="1413000"/>
            <a:ext cx="8229600" cy="502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новные понятия и опреде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корость химической реак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акторы, влияющие на скорость химической реак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ория активных столкнов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ория переходного состоя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тализ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имическое равновес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нцип Ле Шатель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акторы, влияющие на смещение химического равновес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Заголовок 1" descr=""/>
          <p:cNvPicPr/>
          <p:nvPr/>
        </p:nvPicPr>
        <p:blipFill>
          <a:blip r:embed="rId1"/>
          <a:stretch/>
        </p:blipFill>
        <p:spPr>
          <a:xfrm>
            <a:off x="1547640" y="189000"/>
            <a:ext cx="7337520" cy="82080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2" descr=""/>
          <p:cNvPicPr/>
          <p:nvPr/>
        </p:nvPicPr>
        <p:blipFill>
          <a:blip r:embed="rId2"/>
          <a:srcRect l="2204" t="15004" r="3861" b="3754"/>
          <a:stretch/>
        </p:blipFill>
        <p:spPr>
          <a:xfrm>
            <a:off x="755640" y="2276640"/>
            <a:ext cx="7772400" cy="394632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11" descr=""/>
          <p:cNvPicPr/>
          <p:nvPr/>
        </p:nvPicPr>
        <p:blipFill>
          <a:blip r:embed="rId3"/>
          <a:stretch/>
        </p:blipFill>
        <p:spPr>
          <a:xfrm>
            <a:off x="3203640" y="1268280"/>
            <a:ext cx="3956040" cy="944640"/>
          </a:xfrm>
          <a:prstGeom prst="rect">
            <a:avLst/>
          </a:prstGeom>
          <a:ln w="0">
            <a:noFill/>
          </a:ln>
        </p:spPr>
      </p:pic>
      <p:pic>
        <p:nvPicPr>
          <p:cNvPr id="321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Заголовок 1" descr=""/>
          <p:cNvPicPr/>
          <p:nvPr/>
        </p:nvPicPr>
        <p:blipFill>
          <a:blip r:embed="rId1"/>
          <a:stretch/>
        </p:blipFill>
        <p:spPr>
          <a:xfrm>
            <a:off x="1193760" y="189000"/>
            <a:ext cx="7950240" cy="72396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2" descr=""/>
          <p:cNvPicPr/>
          <p:nvPr/>
        </p:nvPicPr>
        <p:blipFill>
          <a:blip r:embed="rId2"/>
          <a:stretch/>
        </p:blipFill>
        <p:spPr>
          <a:xfrm>
            <a:off x="0" y="1484280"/>
            <a:ext cx="6477120" cy="4857840"/>
          </a:xfrm>
          <a:prstGeom prst="rect">
            <a:avLst/>
          </a:prstGeom>
          <a:ln w="0">
            <a:noFill/>
          </a:ln>
        </p:spPr>
      </p:pic>
      <p:sp>
        <p:nvSpPr>
          <p:cNvPr id="324" name="Прямоугольник 3"/>
          <p:cNvSpPr/>
          <p:nvPr/>
        </p:nvSpPr>
        <p:spPr>
          <a:xfrm>
            <a:off x="6084720" y="1052640"/>
            <a:ext cx="2808360" cy="57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Е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</a:rPr>
              <a:t>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– энергия активац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</a:rPr>
              <a:t>исх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– стандартная энтальпия исходных вещест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</a:rPr>
              <a:t>кон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– стандартная энтальпия продуктов реакц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</a:rPr>
              <a:t>р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– тепловой эффект</a:t>
            </a: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еакц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Заголовок 1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8242200" cy="671760"/>
          </a:xfrm>
          <a:prstGeom prst="rect">
            <a:avLst/>
          </a:prstGeom>
          <a:ln w="0">
            <a:noFill/>
          </a:ln>
        </p:spPr>
      </p:pic>
      <p:sp>
        <p:nvSpPr>
          <p:cNvPr id="327" name="Прямоугольник 2"/>
          <p:cNvSpPr/>
          <p:nvPr/>
        </p:nvSpPr>
        <p:spPr>
          <a:xfrm>
            <a:off x="250920" y="1268280"/>
            <a:ext cx="8713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ещества, не расходующиеся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 результате протекания реакции, но влияющие на ее скорость называются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катализаторам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Явление изменения скорости реакции под действием катализаторов называют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катализо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Прямоугольник 3"/>
          <p:cNvSpPr/>
          <p:nvPr/>
        </p:nvSpPr>
        <p:spPr>
          <a:xfrm>
            <a:off x="324000" y="3213000"/>
            <a:ext cx="8501040" cy="33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еханизм действия катализатора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 стадия:            А + К → А … К → А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кт. комп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 стадия:          АК + В → В … АК → АВ + 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кт. комп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ходе реакции катализатор не расходуетс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атализатор изменяет путь реакции и тем самым влияет на энергию активац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Заголовок 1" descr=""/>
          <p:cNvPicPr/>
          <p:nvPr/>
        </p:nvPicPr>
        <p:blipFill>
          <a:blip r:embed="rId1"/>
          <a:stretch/>
        </p:blipFill>
        <p:spPr>
          <a:xfrm>
            <a:off x="658800" y="189000"/>
            <a:ext cx="8485200" cy="131760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2" descr=""/>
          <p:cNvPicPr/>
          <p:nvPr/>
        </p:nvPicPr>
        <p:blipFill>
          <a:blip r:embed="rId2"/>
          <a:stretch/>
        </p:blipFill>
        <p:spPr>
          <a:xfrm>
            <a:off x="1042920" y="1628640"/>
            <a:ext cx="7558200" cy="4800600"/>
          </a:xfrm>
          <a:prstGeom prst="rect">
            <a:avLst/>
          </a:prstGeom>
          <a:ln w="0">
            <a:noFill/>
          </a:ln>
        </p:spPr>
      </p:pic>
      <p:pic>
        <p:nvPicPr>
          <p:cNvPr id="33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Заголовок 1" descr=""/>
          <p:cNvPicPr/>
          <p:nvPr/>
        </p:nvPicPr>
        <p:blipFill>
          <a:blip r:embed="rId1"/>
          <a:stretch/>
        </p:blipFill>
        <p:spPr>
          <a:xfrm>
            <a:off x="1619280" y="189000"/>
            <a:ext cx="6092640" cy="744480"/>
          </a:xfrm>
          <a:prstGeom prst="rect">
            <a:avLst/>
          </a:prstGeom>
          <a:ln w="0">
            <a:noFill/>
          </a:ln>
        </p:spPr>
      </p:pic>
      <p:sp>
        <p:nvSpPr>
          <p:cNvPr id="334" name="Прямоугольник 2"/>
          <p:cNvSpPr/>
          <p:nvPr/>
        </p:nvSpPr>
        <p:spPr>
          <a:xfrm>
            <a:off x="179280" y="1197000"/>
            <a:ext cx="8643960" cy="254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 гомогенном катализе -  катализатор  и реагирующие вещества находятся в  одной фаз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схема реакции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H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O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H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O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O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2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1.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+ I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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O + IO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2. IO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-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+ 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O + I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+ 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Прямоугольник 3"/>
          <p:cNvSpPr/>
          <p:nvPr/>
        </p:nvSpPr>
        <p:spPr>
          <a:xfrm>
            <a:off x="179280" y="3141720"/>
            <a:ext cx="8643960" cy="322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 гетерогенном катализе  – катализатор и реагенты находятся в разных фаза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       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P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схема реакции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CO + 1/2 O</a:t>
            </a:r>
            <a:r>
              <a:rPr b="0" lang="pl-PL" sz="24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CO</a:t>
            </a:r>
            <a:r>
              <a:rPr b="0" lang="pl-PL" sz="24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1. 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CO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(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г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) 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s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C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(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дс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2. 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(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г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) +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2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(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дс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3. 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CO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(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дс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.) + 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(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дс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.)</a:t>
            </a: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CO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(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дс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4. 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CO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(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дс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.) </a:t>
            </a: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CO</a:t>
            </a:r>
            <a:r>
              <a:rPr b="0" lang="ru-RU" sz="24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(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г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Прямоугольник 4"/>
          <p:cNvSpPr/>
          <p:nvPr/>
        </p:nvSpPr>
        <p:spPr>
          <a:xfrm>
            <a:off x="214200" y="5786280"/>
            <a:ext cx="850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ри ферментативном катализе – катализатором являются сложные белковые молекулы (энзимы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Заголовок 1" descr=""/>
          <p:cNvPicPr/>
          <p:nvPr/>
        </p:nvPicPr>
        <p:blipFill>
          <a:blip r:embed="rId1"/>
          <a:stretch/>
        </p:blipFill>
        <p:spPr>
          <a:xfrm>
            <a:off x="1692360" y="115920"/>
            <a:ext cx="6296040" cy="1028520"/>
          </a:xfrm>
          <a:prstGeom prst="rect">
            <a:avLst/>
          </a:prstGeom>
          <a:ln w="0">
            <a:noFill/>
          </a:ln>
        </p:spPr>
      </p:pic>
      <p:sp>
        <p:nvSpPr>
          <p:cNvPr id="339" name="Прямоугольник 2"/>
          <p:cNvSpPr/>
          <p:nvPr/>
        </p:nvSpPr>
        <p:spPr>
          <a:xfrm>
            <a:off x="250920" y="1413000"/>
            <a:ext cx="864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Состояние обратимой реакции, при котором скорость прямой реакции равна скорости обратной реакции, называется химическим равновесием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0" name="Picture 2" descr=""/>
          <p:cNvPicPr/>
          <p:nvPr/>
        </p:nvPicPr>
        <p:blipFill>
          <a:blip r:embed="rId2"/>
          <a:stretch/>
        </p:blipFill>
        <p:spPr>
          <a:xfrm>
            <a:off x="250920" y="2637000"/>
            <a:ext cx="4054320" cy="35766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41" name="Object 4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pic>
        <p:nvPicPr>
          <p:cNvPr id="342" name="Picture 5" descr=""/>
          <p:cNvPicPr/>
          <p:nvPr/>
        </p:nvPicPr>
        <p:blipFill>
          <a:blip r:embed="rId3"/>
          <a:stretch/>
        </p:blipFill>
        <p:spPr>
          <a:xfrm>
            <a:off x="5076720" y="2637000"/>
            <a:ext cx="3425760" cy="9619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43" name="Object 7"/>
              <p:cNvSpPr txBox="1"/>
              <p:nvPr/>
            </p:nvSpPr>
            <p:spPr>
              <a:xfrm>
                <a:off x="5292720" y="3789360"/>
                <a:ext cx="3003480" cy="60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пр</m:t>
                    </m:r>
                    <m:r>
                      <m:t xml:space="preserve">=</m:t>
                    </m:r>
                    <m:r>
                      <m:t xml:space="preserve">k</m:t>
                    </m:r>
                    <m:r>
                      <m:rPr>
                        <m:lit/>
                        <m:nor/>
                      </m:rPr>
                      <m:t xml:space="preserve">пр</m:t>
                    </m:r>
                    <m:r>
                      <m:t xml:space="preserve">⋅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e>
                      <m:sup>
                        <m:r>
                          <m:t xml:space="preserve">a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e>
                      <m:sup>
                        <m:r>
                          <m:t xml:space="preserve">b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4" name="Object 8"/>
              <p:cNvSpPr txBox="1"/>
              <p:nvPr/>
            </p:nvSpPr>
            <p:spPr>
              <a:xfrm>
                <a:off x="5219640" y="4581360"/>
                <a:ext cx="3146400" cy="60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обр</m:t>
                    </m:r>
                    <m:r>
                      <m:t xml:space="preserve">=</m:t>
                    </m:r>
                    <m:r>
                      <m:t xml:space="preserve">k</m:t>
                    </m:r>
                    <m:r>
                      <m:rPr>
                        <m:lit/>
                        <m:nor/>
                      </m:rPr>
                      <m:t xml:space="preserve">обр</m:t>
                    </m:r>
                    <m:r>
                      <m:t xml:space="preserve">⋅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</m:e>
                      <m:sup>
                        <m:r>
                          <m:t xml:space="preserve">c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D</m:t>
                            </m:r>
                          </m:e>
                        </m:d>
                      </m:e>
                      <m:sup>
                        <m:r>
                          <m:t xml:space="preserve">d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5" name="Object 9"/>
              <p:cNvSpPr txBox="1"/>
              <p:nvPr/>
            </p:nvSpPr>
            <p:spPr>
              <a:xfrm>
                <a:off x="4427640" y="5661000"/>
                <a:ext cx="436068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rPr>
                        <m:lit/>
                        <m:nor/>
                      </m:rPr>
                      <m:t xml:space="preserve">пр</m:t>
                    </m:r>
                    <m:r>
                      <m:t xml:space="preserve">⋅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e>
                      <m:sup>
                        <m:r>
                          <m:t xml:space="preserve">a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e>
                      <m:sup>
                        <m:r>
                          <m:t xml:space="preserve">b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k</m:t>
                    </m:r>
                    <m:r>
                      <m:rPr>
                        <m:lit/>
                        <m:nor/>
                      </m:rPr>
                      <m:t xml:space="preserve">обр</m:t>
                    </m:r>
                    <m:r>
                      <m:t xml:space="preserve">⋅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</m:e>
                      <m:sup>
                        <m:r>
                          <m:t xml:space="preserve">c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D</m:t>
                            </m:r>
                          </m:e>
                        </m:d>
                      </m:e>
                      <m:sup>
                        <m:r>
                          <m:t xml:space="preserve">d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pic>
        <p:nvPicPr>
          <p:cNvPr id="346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Заголовок 1" descr=""/>
          <p:cNvPicPr/>
          <p:nvPr/>
        </p:nvPicPr>
        <p:blipFill>
          <a:blip r:embed="rId1"/>
          <a:stretch/>
        </p:blipFill>
        <p:spPr>
          <a:xfrm>
            <a:off x="704880" y="189000"/>
            <a:ext cx="8439120" cy="815760"/>
          </a:xfrm>
          <a:prstGeom prst="rect">
            <a:avLst/>
          </a:prstGeom>
          <a:ln w="0">
            <a:noFill/>
          </a:ln>
        </p:spPr>
      </p:pic>
      <p:sp>
        <p:nvSpPr>
          <p:cNvPr id="348" name="Rectangle 2"/>
          <p:cNvSpPr/>
          <p:nvPr/>
        </p:nvSpPr>
        <p:spPr>
          <a:xfrm>
            <a:off x="285840" y="1138680"/>
            <a:ext cx="8643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Константа химического равновеси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- это отношение произведения равновесных концентраций продуктов реакции к произведению равновесных концентраций исходных веществ, при чем все вещества находятся в степенях численно равных их стехиометрическим коэффициента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1" name="Object 5"/>
              <p:cNvSpPr txBox="1"/>
              <p:nvPr/>
            </p:nvSpPr>
            <p:spPr>
              <a:xfrm>
                <a:off x="2287440" y="3357720"/>
                <a:ext cx="4411800" cy="111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k</m:t>
                        </m:r>
                        <m:r>
                          <m:rPr>
                            <m:lit/>
                            <m:nor/>
                          </m:rPr>
                          <m:t xml:space="preserve">пр</m:t>
                        </m:r>
                      </m:num>
                      <m:den>
                        <m:r>
                          <m:t xml:space="preserve">k</m:t>
                        </m:r>
                        <m:r>
                          <m:rPr>
                            <m:lit/>
                            <m:nor/>
                          </m:rPr>
                          <m:t xml:space="preserve">обр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C</m:t>
                                </m:r>
                              </m:e>
                            </m:d>
                          </m:e>
                          <m:sub>
                            <m:r>
                              <m:t xml:space="preserve">p</m:t>
                            </m:r>
                          </m:sub>
                          <m:sup>
                            <m:r>
                              <m:t xml:space="preserve">c</m:t>
                            </m:r>
                          </m:sup>
                        </m:sSubSup>
                        <m:r>
                          <m:t xml:space="preserve">⋅</m:t>
                        </m:r>
                        <m:sSub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D</m:t>
                                </m:r>
                              </m:e>
                            </m:d>
                          </m:e>
                          <m:sub>
                            <m:r>
                              <m:t xml:space="preserve">p</m:t>
                            </m:r>
                          </m:sub>
                          <m:sup>
                            <m:r>
                              <m:t xml:space="preserve">d</m:t>
                            </m:r>
                          </m:sup>
                        </m:sSubSup>
                      </m:num>
                      <m:den>
                        <m:sSub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A</m:t>
                                </m:r>
                              </m:e>
                            </m:d>
                          </m:e>
                          <m:sub>
                            <m:r>
                              <m:t xml:space="preserve">p</m:t>
                            </m:r>
                          </m:sub>
                          <m:sup>
                            <m:r>
                              <m:t xml:space="preserve">a</m:t>
                            </m:r>
                          </m:sup>
                        </m:sSubSup>
                        <m:r>
                          <m:t xml:space="preserve">⋅</m:t>
                        </m:r>
                        <m:sSub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B</m:t>
                                </m:r>
                              </m:e>
                            </m:d>
                          </m:e>
                          <m:sub>
                            <m:r>
                              <m:t xml:space="preserve">p</m:t>
                            </m:r>
                          </m:sub>
                          <m:sup>
                            <m:r>
                              <m:t xml:space="preserve">b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52" name="Rectangle 7"/>
          <p:cNvSpPr/>
          <p:nvPr/>
        </p:nvSpPr>
        <p:spPr>
          <a:xfrm>
            <a:off x="428760" y="4548600"/>
            <a:ext cx="828648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ля гомогенных реакций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S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г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+ 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г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 2S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г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Прямоугольник 9"/>
          <p:cNvSpPr/>
          <p:nvPr/>
        </p:nvSpPr>
        <p:spPr>
          <a:xfrm>
            <a:off x="395280" y="5661000"/>
            <a:ext cx="85010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ля гетерогенных реакций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ZnO(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в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+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г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Zn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тв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г)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4" name="Object 8"/>
              <p:cNvSpPr txBox="1"/>
              <p:nvPr/>
            </p:nvSpPr>
            <p:spPr>
              <a:xfrm>
                <a:off x="5094360" y="4653000"/>
                <a:ext cx="2593800" cy="82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р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SO</m:t>
                                    </m:r>
                                  </m:e>
                                  <m:sub>
                                    <m:r>
                                      <m:t xml:space="preserve">3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SO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⋅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O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5" name="Object 9"/>
              <p:cNvSpPr txBox="1"/>
              <p:nvPr/>
            </p:nvSpPr>
            <p:spPr>
              <a:xfrm>
                <a:off x="5219640" y="5734080"/>
                <a:ext cx="1830600" cy="73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р</m:t>
                    </m:r>
                    <m:r>
                      <m:t xml:space="preserve">=</m:t>
                    </m:r>
                    <m:f>
                      <m:num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O</m:t>
                            </m:r>
                          </m:e>
                        </m:d>
                      </m:num>
                      <m:den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35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Заголовок 1" descr=""/>
          <p:cNvPicPr/>
          <p:nvPr/>
        </p:nvPicPr>
        <p:blipFill>
          <a:blip r:embed="rId1"/>
          <a:stretch/>
        </p:blipFill>
        <p:spPr>
          <a:xfrm>
            <a:off x="2268360" y="115920"/>
            <a:ext cx="5747040" cy="744480"/>
          </a:xfrm>
          <a:prstGeom prst="rect">
            <a:avLst/>
          </a:prstGeom>
          <a:ln w="0">
            <a:noFill/>
          </a:ln>
        </p:spPr>
      </p:pic>
      <p:sp>
        <p:nvSpPr>
          <p:cNvPr id="358" name="Прямоугольник 4"/>
          <p:cNvSpPr/>
          <p:nvPr/>
        </p:nvSpPr>
        <p:spPr>
          <a:xfrm>
            <a:off x="539640" y="1052640"/>
            <a:ext cx="8429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Химическое равновесие является подвижным. При изменении внешних условий скорости прямой и обратной реакций могут стать неодинаковыми, что обуславливает смещение (сдиг) равновесия.</a:t>
            </a: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9" name="Picture 2" descr=""/>
          <p:cNvPicPr/>
          <p:nvPr/>
        </p:nvPicPr>
        <p:blipFill>
          <a:blip r:embed="rId2"/>
          <a:stretch/>
        </p:blipFill>
        <p:spPr>
          <a:xfrm>
            <a:off x="468360" y="2637000"/>
            <a:ext cx="2743200" cy="3257280"/>
          </a:xfrm>
          <a:prstGeom prst="rect">
            <a:avLst/>
          </a:prstGeom>
          <a:ln w="0">
            <a:noFill/>
          </a:ln>
        </p:spPr>
      </p:pic>
      <p:sp>
        <p:nvSpPr>
          <p:cNvPr id="360" name="Rectangle 1"/>
          <p:cNvSpPr/>
          <p:nvPr/>
        </p:nvSpPr>
        <p:spPr>
          <a:xfrm>
            <a:off x="3708360" y="2606040"/>
            <a:ext cx="5072040" cy="40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1884 г. французский химик Анри Луи Ле Шателье сформулировал принцип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Если на равновесную систему оказать внешнее воздействие, то равновесие смещается в сторону той реакции (прямой или обратной), которая противодействует этому воздействию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Rectangle 2"/>
          <p:cNvSpPr/>
          <p:nvPr/>
        </p:nvSpPr>
        <p:spPr>
          <a:xfrm>
            <a:off x="395280" y="5878800"/>
            <a:ext cx="2857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нри Лу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Ле Шатель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Заголовок 1" descr=""/>
          <p:cNvPicPr/>
          <p:nvPr/>
        </p:nvPicPr>
        <p:blipFill>
          <a:blip r:embed="rId1"/>
          <a:stretch/>
        </p:blipFill>
        <p:spPr>
          <a:xfrm>
            <a:off x="863640" y="0"/>
            <a:ext cx="8280360" cy="1339920"/>
          </a:xfrm>
          <a:prstGeom prst="rect">
            <a:avLst/>
          </a:prstGeom>
          <a:ln w="0">
            <a:noFill/>
          </a:ln>
        </p:spPr>
      </p:pic>
      <p:sp>
        <p:nvSpPr>
          <p:cNvPr id="364" name="Rectangle 1"/>
          <p:cNvSpPr/>
          <p:nvPr/>
        </p:nvSpPr>
        <p:spPr>
          <a:xfrm>
            <a:off x="395280" y="1555200"/>
            <a:ext cx="8501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. Концентраци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При увеличении (уменьшении) концентрации реагирующих веществ и при уменьшении (увеличении) концентрации продуктов реакции химическое равновесие смещается вправо (влево)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Прямоугольник 5"/>
          <p:cNvSpPr/>
          <p:nvPr/>
        </p:nvSpPr>
        <p:spPr>
          <a:xfrm>
            <a:off x="395280" y="3284640"/>
            <a:ext cx="8429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. Давление.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ри увеличении (уменьшении) давления равновесие смещается в сторону уменьшения (увеличения) числа молекул (молей) газообразных веществ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Прямоугольник 6"/>
          <p:cNvSpPr/>
          <p:nvPr/>
        </p:nvSpPr>
        <p:spPr>
          <a:xfrm>
            <a:off x="428760" y="4929120"/>
            <a:ext cx="8501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0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. Температура.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овышение (понижение) температуры приводит к смещению химического равновесия в сторону эндотермической (экзотермической) реакц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Заголовок 1" descr=""/>
          <p:cNvPicPr/>
          <p:nvPr/>
        </p:nvPicPr>
        <p:blipFill>
          <a:blip r:embed="rId1"/>
          <a:stretch/>
        </p:blipFill>
        <p:spPr>
          <a:xfrm>
            <a:off x="2124000" y="476280"/>
            <a:ext cx="5443560" cy="723960"/>
          </a:xfrm>
          <a:prstGeom prst="rect">
            <a:avLst/>
          </a:prstGeom>
          <a:ln w="0">
            <a:noFill/>
          </a:ln>
        </p:spPr>
      </p:pic>
      <p:sp>
        <p:nvSpPr>
          <p:cNvPr id="369" name="Прямоугольник 3"/>
          <p:cNvSpPr/>
          <p:nvPr/>
        </p:nvSpPr>
        <p:spPr>
          <a:xfrm>
            <a:off x="468360" y="1916280"/>
            <a:ext cx="8429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.Л. Глинка, Общая химия, М.: Химия, 200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.В.Коровин Общая химия, М.: Высшая школа, 199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.И.Гельфман, В.П.Юстратов Химия, СПб.: Лань, 2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www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chemistry.r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ww. chem.msu.su/r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Прямоугольник 7"/>
          <p:cNvSpPr/>
          <p:nvPr/>
        </p:nvSpPr>
        <p:spPr>
          <a:xfrm>
            <a:off x="250920" y="127080"/>
            <a:ext cx="8643960" cy="73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2d050"/>
                </a:solidFill>
                <a:latin typeface="Century Gothic"/>
              </a:rPr>
              <a:t>ОСНОВНЫЕ ПОНЯТИЯ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2d050"/>
                </a:solidFill>
                <a:latin typeface="Century Gothic"/>
              </a:rPr>
              <a:t>И ОПРЕДЕЛ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Химическая кинетика -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раздел химии, изучающий скорости и механизмы химических процессов, а также зависимость их от различных фактор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Механизм реакции –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это последовательность отдельных простейших (элементарных) стадий реакции, в результате которых происходит образование конечных веществ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Теоретическое значение кинетики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остоит в том, что она позволяет проникнуть в сущность механизма химического взаимодействия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рикладное значение кинетики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пределяется тем, что для практического использования какой-либо реакции необходимо управлять ею, т.е. знать скорость ее протекания в данных условиях и способы изменения этой скорост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Заголовок 2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8412120" cy="81144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 txBox="1"/>
          <p:nvPr/>
        </p:nvSpPr>
        <p:spPr>
          <a:xfrm>
            <a:off x="684000" y="1844640"/>
            <a:ext cx="8280360" cy="36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числу частиц, участвующих в элементарном акте реакции (молекулярность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числу фаз, участвующих в реак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применимости катализатор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степени слож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механизму протек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Заголовок 2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8242200" cy="61596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 txBox="1"/>
          <p:nvPr/>
        </p:nvSpPr>
        <p:spPr>
          <a:xfrm>
            <a:off x="468360" y="1628640"/>
            <a:ext cx="840096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олекулярность реакции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 минимальное число молекул, участвующих в элементарном химическом процесс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номолекулярные реакции: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6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2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имолекулярные реакции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г) +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г) =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г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римолекулярные реакци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2NO + O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= 2 NO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NO + C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2 NO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Заголовок 2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8728200" cy="116352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 txBox="1"/>
          <p:nvPr/>
        </p:nvSpPr>
        <p:spPr>
          <a:xfrm>
            <a:off x="178920" y="1773360"/>
            <a:ext cx="8643960" cy="48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Гомогенные реакци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это реакции, протекающие в однородной среде ( в одной фазе). Например, в газообразной фазе или жидком растворе. Гомогенные реакции протекают равномерно во всем объеме реакционного простран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Гетерогенные реакци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это реакции, протекающие в неоднородной среде, т.е. между веществами, которые находятся в разных фазах (твердой и жидкой, газообразной и жидкой и т.д.). Гетерогенные  реакции идут на границе раздела фаз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Заголовок 1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8242200" cy="140832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 txBox="1"/>
          <p:nvPr/>
        </p:nvSpPr>
        <p:spPr>
          <a:xfrm>
            <a:off x="500040" y="17146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талитические реакци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это реакции, протекающие под действием катализатор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  +  В  =  А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втокаталитические реакции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это реакции, в которых катализатором является один из продуктов реакци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пример, при разложении перманганата калия образуется оксид марганца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V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который является катализатором для данного процесс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MnO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nO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nO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5"/>
          <p:cNvSpPr/>
          <p:nvPr/>
        </p:nvSpPr>
        <p:spPr>
          <a:xfrm>
            <a:off x="4705560" y="2708280"/>
            <a:ext cx="36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entury Gothic"/>
              </a:rPr>
              <a:t>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Заголовок 1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8242200" cy="67176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 txBox="1"/>
          <p:nvPr/>
        </p:nvSpPr>
        <p:spPr>
          <a:xfrm>
            <a:off x="457200" y="928800"/>
            <a:ext cx="8229600" cy="55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остые реакции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это реакции, протекающие в одну стадию, в них участвуют только частицы, входящие в уравнение реак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ложные реакци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это реакции, идущие в несколько стадий, которые идут последовательно, либо параллельно, либо  последовательно-параллель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Заголовок 3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8242200" cy="884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4" name="Object 3"/>
          <p:cNvGraphicFramePr/>
          <p:nvPr/>
        </p:nvGraphicFramePr>
        <p:xfrm>
          <a:off x="5651640" y="2924280"/>
          <a:ext cx="2425680" cy="291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45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651640" y="2924280"/>
                    <a:ext cx="2425680" cy="29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6" name="Прямоугольник 6"/>
          <p:cNvSpPr/>
          <p:nvPr/>
        </p:nvSpPr>
        <p:spPr>
          <a:xfrm>
            <a:off x="250920" y="1628640"/>
            <a:ext cx="864396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следовательными реакциями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зывают реакции с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омежуточными стадиями, когда продукт предыдущей стадии служит исходным веществом для последующей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 CHCl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 HCl + CCl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Прямоугольник 8"/>
          <p:cNvSpPr/>
          <p:nvPr/>
        </p:nvSpPr>
        <p:spPr>
          <a:xfrm>
            <a:off x="250920" y="3429000"/>
            <a:ext cx="8675640" cy="27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араллельными реакциями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зывают реакции, в которых исходные вещества способны  образовывать разные продукты реакции или одно вещество  одновременн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пособно реагировать с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есколькими веществам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4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 N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2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;  3N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 N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+ 4N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48" name="Object 7"/>
          <p:cNvGraphicFramePr/>
          <p:nvPr/>
        </p:nvGraphicFramePr>
        <p:xfrm>
          <a:off x="7072200" y="4857840"/>
          <a:ext cx="1603440" cy="1646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49" name="Object 7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072200" y="4857840"/>
                    <a:ext cx="1603440" cy="164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50" name="" descr=""/>
          <p:cNvPicPr/>
          <p:nvPr/>
        </p:nvPicPr>
        <p:blipFill>
          <a:blip r:embed="rId6"/>
          <a:stretch/>
        </p:blipFill>
        <p:spPr>
          <a:xfrm>
            <a:off x="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4T16:49:40Z</dcterms:created>
  <dc:creator>Елена</dc:creator>
  <dc:description/>
  <dc:language>en-US</dc:language>
  <cp:lastModifiedBy>User</cp:lastModifiedBy>
  <dcterms:modified xsi:type="dcterms:W3CDTF">2011-09-13T05:22:22Z</dcterms:modified>
  <cp:revision>105</cp:revision>
  <dc:subject/>
  <dc:title>ОСНОВЫ ХИМИЧЕСКОЙ КИНЕТИКИ И ХИМИЧЕСКОЕ РАВНОВЕСИЕ</dc:title>
</cp:coreProperties>
</file>